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7545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896-05F9-415F-958C-B9F88C49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ECD-1EEF-45E3-B7E6-DC01BA57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726-D579-4EEF-8DFD-48F51077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A28-C4FC-4C0A-B447-DDB3D60C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387-ADD6-40E9-979E-571CD9A4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8A7-D886-488A-A83C-23E20875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A93-6207-4490-96C0-71DE048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A3A-F22A-471D-9C42-F37D274E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240-9301-4DFD-B6EC-0D60F1E1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6D8-45F0-4760-8144-71CF2E2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775-4B01-4074-BEB0-709BEA3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209-3CFA-4C4B-8980-C426FC4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0850-0481-4ED6-80A7-DF3FEC79338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qual_pre" descr=""/>
          <p:cNvPicPr/>
          <p:nvPr/>
        </p:nvPicPr>
        <p:blipFill>
          <a:blip r:embed="rId3"/>
          <a:stretch/>
        </p:blipFill>
        <p:spPr>
          <a:xfrm>
            <a:off x="8059680" y="774720"/>
            <a:ext cx="1084320" cy="514440"/>
          </a:xfrm>
          <a:prstGeom prst="rect">
            <a:avLst/>
          </a:prstGeom>
          <a:ln w="0">
            <a:noFill/>
          </a:ln>
        </p:spPr>
      </p:pic>
      <p:pic>
        <p:nvPicPr>
          <p:cNvPr id="6" name="BANDERA%20FSE" descr=""/>
          <p:cNvPicPr/>
          <p:nvPr/>
        </p:nvPicPr>
        <p:blipFill>
          <a:blip r:embed="rId4"/>
          <a:stretch/>
        </p:blipFill>
        <p:spPr>
          <a:xfrm>
            <a:off x="8128080" y="122400"/>
            <a:ext cx="8571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38400"/>
            <a:ext cx="7772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33520"/>
            <a:ext cx="9144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252000" bIns="154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cc"/>
                </a:solidFill>
                <a:latin typeface="Comic Sans MS"/>
              </a:rPr>
              <a:t>Certificación y Decl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cc"/>
                </a:solidFill>
                <a:latin typeface="Comic Sans MS"/>
              </a:rPr>
              <a:t>de Gastos y Petición de Pa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Procedimiento de cer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952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cc"/>
                </a:solidFill>
                <a:latin typeface="Comic Sans MS"/>
              </a:rPr>
              <a:t>Presentación de documentos originales de certificación y declaración de gastos y petición de pago, firmados y sell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cc"/>
                </a:solidFill>
                <a:latin typeface="Comic Sans MS"/>
              </a:rPr>
              <a:t>Presentación de una relación de ga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cc"/>
                </a:solidFill>
                <a:latin typeface="Comic Sans MS"/>
              </a:rPr>
              <a:t>Presentación de informe parcial, anual y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cc"/>
                </a:solidFill>
                <a:latin typeface="Comic Sans MS"/>
              </a:rPr>
              <a:t>Módulo de seguimiento cumplimen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002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Certificación de la fase prepa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5276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Gastos realizados y pagados en el periodo comprendido entre el 29 de marzo y el 31 de diciembre de 2004: se presentará una certificación antes del 30 de abril de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Los gastos correspondientes a la fase preparatoria realizados durante los primeros meses del 2005 se presentarán en la primera certificación parcial de 2005 (en la subpartida correspondi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123920"/>
            <a:ext cx="76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6600cc"/>
                </a:solidFill>
                <a:uFillTx/>
                <a:latin typeface="Comic Sans MS"/>
              </a:rPr>
              <a:t>La certificación de gastos: plaz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ntes del 30 de abril de cada año debe presentarse una certificación final de los gastos realizados y efectivamente pagados entre el 1 de enero y el 31 de diciembre. Esta certificación es de carácter oblig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Se recomienda la presentación de una certificación parcial, que comprenda los gastos realizados y efectivamente pagados durante los seis primeros meses del año que deberá presentarse en la UAFSE antes del 31 de octubre (riesgo de descompromis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cc"/>
                </a:solidFill>
                <a:latin typeface="Comic Sans MS"/>
              </a:rPr>
              <a:t>Petición P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La petición de pago deberá tener fecha igual o posterior a la Certificación y Declaración de Ga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La cuenta corriente consignada en la Petición de Pago deberá estar acreditada ante el Tesoro Públ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http://www.tesoro.es/sp/acreedores/anexo2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La Petición de Pago deberá presentarse sellada y Firmada por el responsable de Organismo Representante del 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cc"/>
                </a:solidFill>
                <a:latin typeface="Comic Sans MS"/>
              </a:rPr>
              <a:t>Relación de ga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Se presentará una relación de los gastos realizados y pagados (que se imputan a la certificación), que deberá recoger, como mínimo: número de factura o documento, proveedor, concepto de gasto, actuación en la que se imputa y entidad que realizó el gasto, porcentaje que se imputa e im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Los documentos para la verificación de la realización y pago de los gastos no se remitirán a la UAFSE, dichos documentos de acuerdo con el art. 38 de Reglamento 1260 deberán permanecer en la entidad Responsable de Control financiero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cc"/>
                </a:solidFill>
                <a:latin typeface="Comic Sans MS"/>
              </a:rPr>
              <a:t>Presentación de infor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Junto a cada certificación parcial, anual o final, se presentará un informe de actividades reali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Si el informe es de carácter anual se añadirá la valoración del cumplimiento de los principios básicos y las prioridades horizontales d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En el informe final se presentará un balance global de la marcha del proyecto y se adjuntarán las conclusiones de la evaluación re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cc"/>
                </a:solidFill>
                <a:latin typeface="Comic Sans MS"/>
              </a:rPr>
              <a:t>Módulo de 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Para obtener los documentos de certificación y declaración de gastos y petición de pago, es necesario cumplimentar el módulo de seguimiento, en los apartado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En las certificaciones anuales se cumplimentará también el apartado de Seguimiento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09:58:15Z</dcterms:created>
  <dc:creator>Soledad Queipo</dc:creator>
  <dc:description>Modificada quitando el 3D y el fondo de color
</dc:description>
  <dc:language>en-US</dc:language>
  <cp:lastModifiedBy>MTAS</cp:lastModifiedBy>
  <cp:lastPrinted>2000-12-12T08:59:52Z</cp:lastPrinted>
  <dcterms:modified xsi:type="dcterms:W3CDTF">2005-04-06T14:59:42Z</dcterms:modified>
  <cp:revision>247</cp:revision>
  <dc:subject/>
  <dc:title>Sin título de diapositiva</dc:title>
</cp:coreProperties>
</file>