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9639-E758-4C24-B1EC-E486EE200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C873-D69A-4156-9B0E-88A027A73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8599-45D9-4C15-A745-D6413DBEB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3799-4C7C-4A1E-BF63-5EEEF57FB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BD34-CF91-4186-9220-E432A24EB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CDD7-25D0-48D3-AE14-D7F363B50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0F91-A054-4577-9124-6FF333A6F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EDBB-7F71-4A41-A9FD-0145E57AA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DBD0-C768-476F-BFE4-B4BF5AFA9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B9CB-E76D-4A18-B804-FC84A786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40E5-CE35-439B-91AF-D4355350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C262-815D-484D-B6F2-E55CE9E1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3ABA4-08EF-4830-A3B9-710367C805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25480" cy="590400"/>
          </a:xfrm>
          <a:prstGeom prst="rect">
            <a:avLst/>
          </a:prstGeom>
          <a:ln w="0">
            <a:noFill/>
          </a:ln>
        </p:spPr>
      </p:pic>
      <p:pic>
        <p:nvPicPr>
          <p:cNvPr id="42" name="esc_C_15" descr=""/>
          <p:cNvPicPr/>
          <p:nvPr/>
        </p:nvPicPr>
        <p:blipFill>
          <a:blip r:embed="rId2"/>
          <a:stretch/>
        </p:blipFill>
        <p:spPr>
          <a:xfrm>
            <a:off x="8305920" y="152280"/>
            <a:ext cx="672840" cy="695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38080" y="1219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60880" y="1941480"/>
            <a:ext cx="374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066680"/>
            <a:ext cx="7848720" cy="53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 u="sng">
                <a:solidFill>
                  <a:srgbClr val="000000"/>
                </a:solidFill>
                <a:uFillTx/>
                <a:latin typeface="Arial Black"/>
                <a:ea typeface="Times New Roman"/>
              </a:rPr>
              <a:t>NIVELES DE CONTROL  REGLAMENTO 438/200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Los niveles de control de acuerdo con el Reglamento 438/2001, se estructuran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PRIMER NIVEL: ART. 4 Reglamento 438/2001</a:t>
            </a:r>
            <a:r>
              <a:rPr b="1" lang="es-ES" sz="22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Black"/>
              </a:rPr>
              <a:t>SEGUNDO NIVEL: </a:t>
            </a:r>
            <a:r>
              <a:rPr b="1" lang="es-ES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ART. 9 Reglamento 438/2001</a:t>
            </a:r>
            <a:r>
              <a:rPr b="1" lang="es-ES" sz="22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Black"/>
              </a:rPr>
              <a:t>TERCER NIVEL: </a:t>
            </a:r>
            <a:r>
              <a:rPr b="1" lang="es-ES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ART. 10 Reglamento 438/2001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B610-D00E-46B8-B760-36A4A033C8A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25480" cy="590400"/>
          </a:xfrm>
          <a:prstGeom prst="rect">
            <a:avLst/>
          </a:prstGeom>
          <a:ln w="0">
            <a:noFill/>
          </a:ln>
        </p:spPr>
      </p:pic>
      <p:pic>
        <p:nvPicPr>
          <p:cNvPr id="77" name="esc_C_15" descr=""/>
          <p:cNvPicPr/>
          <p:nvPr/>
        </p:nvPicPr>
        <p:blipFill>
          <a:blip r:embed="rId2"/>
          <a:stretch/>
        </p:blipFill>
        <p:spPr>
          <a:xfrm>
            <a:off x="8305920" y="152280"/>
            <a:ext cx="672840" cy="695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14300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2120" y="1143000"/>
            <a:ext cx="7696080" cy="44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 Black"/>
              </a:rPr>
              <a:t>CERTIFICACION DE SALARIOS (FUNCIONARIO U OTRO) O FACTURAS DE PROFESIONALES QUE HAN PARTICIPADO EN EL PROYECTO  SIN  PRUEBA DE SU PARTICIPAC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ts val="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4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 Black"/>
              </a:rPr>
              <a:t>FALTA DE JUSTIFICACIÓN DE ACTUACIONES CERTIFICADAS (ESTUDIOS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ts val="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 Black"/>
              </a:rPr>
              <a:t>CERTIFICACION DE GASTOS NO RESPALDADOS POR FACTURAS O DOCUMENTOS CONTABLES DE VALOR PROBATORIO EQUIVALENT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27C5-13E8-4022-9E01-7AD0F39AD77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25480" cy="590400"/>
          </a:xfrm>
          <a:prstGeom prst="rect">
            <a:avLst/>
          </a:prstGeom>
          <a:ln w="0">
            <a:noFill/>
          </a:ln>
        </p:spPr>
      </p:pic>
      <p:pic>
        <p:nvPicPr>
          <p:cNvPr id="81" name="esc_C_15" descr=""/>
          <p:cNvPicPr/>
          <p:nvPr/>
        </p:nvPicPr>
        <p:blipFill>
          <a:blip r:embed="rId2"/>
          <a:stretch/>
        </p:blipFill>
        <p:spPr>
          <a:xfrm>
            <a:off x="8305920" y="152280"/>
            <a:ext cx="672840" cy="6955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85800" y="114300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120" y="1143000"/>
            <a:ext cx="7696080" cy="43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 Black"/>
              </a:rPr>
              <a:t>CONTRATACIONES SIN CUMPLIR LOS PRINCIPIOS DE PUBLICIDAD, CONCURRENCIA Y TRANSPARENCI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 Black"/>
              </a:rPr>
              <a:t>CONTINUOS CAMBIOS DE GESTOR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 Black"/>
              </a:rPr>
              <a:t>FIRMA DE LA CERTIFICACION DE GASTO/ SOLICITUD DE PAGO POR EMPRESAS AUDITORAS (No socios responsables del control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ED12-C516-405C-B6B6-85CBBA9E88A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25480" cy="590400"/>
          </a:xfrm>
          <a:prstGeom prst="rect">
            <a:avLst/>
          </a:prstGeom>
          <a:ln w="0">
            <a:noFill/>
          </a:ln>
        </p:spPr>
      </p:pic>
      <p:pic>
        <p:nvPicPr>
          <p:cNvPr id="85" name="esc_C_15" descr=""/>
          <p:cNvPicPr/>
          <p:nvPr/>
        </p:nvPicPr>
        <p:blipFill>
          <a:blip r:embed="rId2"/>
          <a:stretch/>
        </p:blipFill>
        <p:spPr>
          <a:xfrm>
            <a:off x="8305920" y="152280"/>
            <a:ext cx="672840" cy="6955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85800" y="114300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1143000"/>
            <a:ext cx="7696080" cy="51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lnSpc>
                <a:spcPct val="110000"/>
              </a:lnSpc>
              <a:spcBef>
                <a:spcPts val="1375"/>
              </a:spcBef>
              <a:buClr>
                <a:srgbClr val="000000"/>
              </a:buClr>
              <a:buFont typeface="Arial Black"/>
              <a:buChar char="•"/>
              <a:tabLst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 Black"/>
              </a:rPr>
              <a:t>CESION DE LOCALES EN ESPECIE SIN VALORACIÓN DE ACUERDO CON LA NORMA 1 DEL REGLAMENTO DE GASTOS ELEGIBLES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10000"/>
              </a:lnSpc>
              <a:spcBef>
                <a:spcPts val="1375"/>
              </a:spcBef>
              <a:buClr>
                <a:srgbClr val="000000"/>
              </a:buClr>
              <a:buFont typeface="Arial Black"/>
              <a:buChar char="•"/>
              <a:tabLst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 Black"/>
              </a:rPr>
              <a:t>EJECUCIÓN DEL PROYECTO MEDIANTE CONTRATAS (EL C.P. AP. 2.2. Pág. 28 lo permite con carácter excepcional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Font typeface="Arial Black"/>
              <a:buChar char="•"/>
              <a:tabLst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10000"/>
              </a:lnSpc>
              <a:spcBef>
                <a:spcPts val="1375"/>
              </a:spcBef>
              <a:buClr>
                <a:srgbClr val="000000"/>
              </a:buClr>
              <a:buFont typeface="Arial Black"/>
              <a:buChar char="•"/>
              <a:tabLst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 Black"/>
              </a:rPr>
              <a:t>DIFICULTADES DE LOS GESTORES PARA DEMOSTRAR LA VINCULACION DE DETERMINADOS GASTOS CERTIFICADOS CON EL PROYECTO EQUAL (en especial gastos de reuniones, comidas, y viajes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ED97-72F6-4838-BD3E-1D303312256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25480" cy="590400"/>
          </a:xfrm>
          <a:prstGeom prst="rect">
            <a:avLst/>
          </a:prstGeom>
          <a:ln w="0">
            <a:noFill/>
          </a:ln>
        </p:spPr>
      </p:pic>
      <p:pic>
        <p:nvPicPr>
          <p:cNvPr id="89" name="esc_C_15" descr=""/>
          <p:cNvPicPr/>
          <p:nvPr/>
        </p:nvPicPr>
        <p:blipFill>
          <a:blip r:embed="rId2"/>
          <a:stretch/>
        </p:blipFill>
        <p:spPr>
          <a:xfrm>
            <a:off x="8305920" y="152280"/>
            <a:ext cx="672840" cy="6955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85800" y="114300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1143000"/>
            <a:ext cx="769608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 Black"/>
              </a:rPr>
              <a:t>OTRAS CUEST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10000"/>
              </a:lnSpc>
              <a:spcBef>
                <a:spcPts val="1375"/>
              </a:spcBef>
              <a:buClr>
                <a:srgbClr val="000000"/>
              </a:buClr>
              <a:buFont typeface="Arial Black"/>
              <a:buChar char="•"/>
              <a:tabLst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 Black"/>
              </a:rPr>
              <a:t>PROYECTOS QUE CONCEDEN AYUDAS PARA DESEMPLEADOS QUE ESTAN COBRANDO LA PRESTACION O EL SUBSIDIO DE DESEMPLEO.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10000"/>
              </a:lnSpc>
              <a:spcBef>
                <a:spcPts val="1375"/>
              </a:spcBef>
              <a:tabLst>
                <a:tab algn="l" pos="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10000"/>
              </a:lnSpc>
              <a:spcBef>
                <a:spcPts val="1375"/>
              </a:spcBef>
              <a:buClr>
                <a:srgbClr val="000000"/>
              </a:buClr>
              <a:buFont typeface="Arial Black"/>
              <a:buChar char="•"/>
              <a:tabLst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 Black"/>
              </a:rPr>
              <a:t>CONCESION DE AYUDAS Y SUBVENCIONES POR EL PROYECTO EQUAL PARA LA CONTRATACIÓN DE TRABAJADORES POR CUENTA AJENA (El CP expresamente lo prohibe Nuevo CP apdo. 3.1 pág 56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729B-85C7-4924-BB71-92A91A1E838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25480" cy="590400"/>
          </a:xfrm>
          <a:prstGeom prst="rect">
            <a:avLst/>
          </a:prstGeom>
          <a:ln w="0">
            <a:noFill/>
          </a:ln>
        </p:spPr>
      </p:pic>
      <p:pic>
        <p:nvPicPr>
          <p:cNvPr id="47" name="esc_C_15" descr=""/>
          <p:cNvPicPr/>
          <p:nvPr/>
        </p:nvPicPr>
        <p:blipFill>
          <a:blip r:embed="rId2"/>
          <a:stretch/>
        </p:blipFill>
        <p:spPr>
          <a:xfrm>
            <a:off x="8305920" y="152280"/>
            <a:ext cx="672840" cy="6955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752480" y="19051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990720"/>
            <a:ext cx="8153640" cy="50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 u="sng">
                <a:solidFill>
                  <a:srgbClr val="000000"/>
                </a:solidFill>
                <a:uFillTx/>
                <a:latin typeface="Arial Black"/>
                <a:ea typeface="Times New Roman"/>
              </a:rPr>
              <a:t>PRIMER NIVEL: ART. 4 del Reglamento 438/2001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El Beneficiario final debe cumplir los siguientes objetivos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1. Verificar la realidad de las prestaciones de los bienes y servicios cofinanciad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2. Garantizar la fiabilidad y elegibilidad  de los gastos declarad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D406-9862-47AF-BAF1-56B98B7D98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25480" cy="590400"/>
          </a:xfrm>
          <a:prstGeom prst="rect">
            <a:avLst/>
          </a:prstGeom>
          <a:ln w="0">
            <a:noFill/>
          </a:ln>
        </p:spPr>
      </p:pic>
      <p:pic>
        <p:nvPicPr>
          <p:cNvPr id="51" name="esc_C_15" descr=""/>
          <p:cNvPicPr/>
          <p:nvPr/>
        </p:nvPicPr>
        <p:blipFill>
          <a:blip r:embed="rId2"/>
          <a:stretch/>
        </p:blipFill>
        <p:spPr>
          <a:xfrm>
            <a:off x="8305920" y="152280"/>
            <a:ext cx="672840" cy="6955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752480" y="19051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990720"/>
            <a:ext cx="8153640" cy="49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 u="sng">
                <a:solidFill>
                  <a:srgbClr val="000000"/>
                </a:solidFill>
                <a:uFillTx/>
                <a:latin typeface="Arial Black"/>
                <a:ea typeface="Times New Roman"/>
              </a:rPr>
              <a:t>PRIMER NIVEL: ART. 4 Reglamento 438/2001. (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3.  </a:t>
            </a:r>
            <a:r>
              <a:rPr b="1" lang="es-ES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Verificar el cumplimiento de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 Blac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Subvencionalidad o elegibilidad de los gastos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 Blac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Contratación públic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 Blac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Ayudas estat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 Blac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Protección del medio ambi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 Blac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Igualdad de oportunida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 Blac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Información y public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 Blac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Conservación y custodia de la documentación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8DCC-7C3B-4385-8C70-4FCE219BAFF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25480" cy="590760"/>
          </a:xfrm>
          <a:prstGeom prst="rect">
            <a:avLst/>
          </a:prstGeom>
          <a:ln w="0">
            <a:noFill/>
          </a:ln>
        </p:spPr>
      </p:pic>
      <p:pic>
        <p:nvPicPr>
          <p:cNvPr id="55" name="esc_C_15" descr=""/>
          <p:cNvPicPr/>
          <p:nvPr/>
        </p:nvPicPr>
        <p:blipFill>
          <a:blip r:embed="rId2"/>
          <a:stretch/>
        </p:blipFill>
        <p:spPr>
          <a:xfrm>
            <a:off x="8305920" y="152280"/>
            <a:ext cx="672840" cy="6955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523880" y="129528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990720"/>
            <a:ext cx="7848720" cy="49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Black"/>
              </a:rPr>
              <a:t>SEGUNDO NIVEL: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Black"/>
                <a:ea typeface="Times New Roman"/>
              </a:rPr>
              <a:t>ART. 9.2 Reglamento 438/2001</a:t>
            </a:r>
            <a:r>
              <a:rPr b="1" lang="es-ES" sz="2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 Black"/>
              </a:rPr>
              <a:t>Antes de certificar una declaración de gastos la autoridad pagadora comprobará a su satisfacción que se cumplen los siguientes requisito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algn="just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 Black"/>
              </a:rPr>
              <a:t>1. Que la autoridad de gestión y los órganos intermedios han cumplido los requisitos del Reglamento 1260/1999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ED98-9411-43AF-B653-AE139A35EF3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14400" y="914400"/>
            <a:ext cx="7467480" cy="53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3480" indent="-374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 Black"/>
              </a:rPr>
              <a:t>2. Que la declaración de gastos sólo comprende  gasto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63480" indent="-374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63480" indent="-374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 Black"/>
              </a:rPr>
              <a:t>a) Efectivamente realizados en el período subvencionable y justificados mediante facturas pagadas o documentos contables de valor probatorio equival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63480" indent="-37440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63480" indent="-374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 Black"/>
              </a:rPr>
              <a:t>b) De operaciones seleccionadas para recibir financiación de la intervención y que han cumplido las normas comunitarias durante todo el período en el que se realizaron los gastos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63480" indent="-37440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63480" indent="-374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 Black"/>
              </a:rPr>
              <a:t>c) Toda la ayuda estatal ha sido autorizada formalmente por la Comisió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25480" cy="590760"/>
          </a:xfrm>
          <a:prstGeom prst="rect">
            <a:avLst/>
          </a:prstGeom>
          <a:ln w="0">
            <a:noFill/>
          </a:ln>
        </p:spPr>
      </p:pic>
      <p:pic>
        <p:nvPicPr>
          <p:cNvPr id="60" name="esc_C_15" descr=""/>
          <p:cNvPicPr/>
          <p:nvPr/>
        </p:nvPicPr>
        <p:blipFill>
          <a:blip r:embed="rId2"/>
          <a:stretch/>
        </p:blipFill>
        <p:spPr>
          <a:xfrm>
            <a:off x="8305920" y="152280"/>
            <a:ext cx="672840" cy="69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336B-8E27-4D88-B4F0-E4EE94929DA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47840" y="1544760"/>
          <a:ext cx="8037360" cy="447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7840" y="1544760"/>
                    <a:ext cx="8037360" cy="44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825480" cy="590760"/>
          </a:xfrm>
          <a:prstGeom prst="rect">
            <a:avLst/>
          </a:prstGeom>
          <a:ln w="0">
            <a:noFill/>
          </a:ln>
        </p:spPr>
      </p:pic>
      <p:pic>
        <p:nvPicPr>
          <p:cNvPr id="64" name="esc_C_15" descr=""/>
          <p:cNvPicPr/>
          <p:nvPr/>
        </p:nvPicPr>
        <p:blipFill>
          <a:blip r:embed="rId4"/>
          <a:stretch/>
        </p:blipFill>
        <p:spPr>
          <a:xfrm>
            <a:off x="8305920" y="152280"/>
            <a:ext cx="672840" cy="69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9DAF-2D6E-40F7-9E41-B1D25447386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139760" y="2519280"/>
          <a:ext cx="7274160" cy="275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9760" y="2519280"/>
                    <a:ext cx="7274160" cy="27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825480" cy="590760"/>
          </a:xfrm>
          <a:prstGeom prst="rect">
            <a:avLst/>
          </a:prstGeom>
          <a:ln w="0">
            <a:noFill/>
          </a:ln>
        </p:spPr>
      </p:pic>
      <p:pic>
        <p:nvPicPr>
          <p:cNvPr id="68" name="esc_C_15" descr=""/>
          <p:cNvPicPr/>
          <p:nvPr/>
        </p:nvPicPr>
        <p:blipFill>
          <a:blip r:embed="rId4"/>
          <a:stretch/>
        </p:blipFill>
        <p:spPr>
          <a:xfrm>
            <a:off x="8305920" y="152280"/>
            <a:ext cx="672840" cy="69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332C-3F6E-49B5-9D4B-B89E88BD2D8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25480" cy="590400"/>
          </a:xfrm>
          <a:prstGeom prst="rect">
            <a:avLst/>
          </a:prstGeom>
          <a:ln w="0">
            <a:noFill/>
          </a:ln>
        </p:spPr>
      </p:pic>
      <p:pic>
        <p:nvPicPr>
          <p:cNvPr id="70" name="esc_C_15" descr=""/>
          <p:cNvPicPr/>
          <p:nvPr/>
        </p:nvPicPr>
        <p:blipFill>
          <a:blip r:embed="rId2"/>
          <a:stretch/>
        </p:blipFill>
        <p:spPr>
          <a:xfrm>
            <a:off x="8305920" y="152280"/>
            <a:ext cx="672840" cy="695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85800" y="1066680"/>
            <a:ext cx="8153280" cy="57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 Black"/>
              </a:rPr>
              <a:t>CONTROLES U.A.F.S.E.  PROYECTOS EQ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20000"/>
              </a:lnSpc>
              <a:spcBef>
                <a:spcPts val="1375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40000"/>
              </a:lnSpc>
              <a:spcBef>
                <a:spcPts val="1375"/>
              </a:spcBef>
              <a:buClr>
                <a:srgbClr val="000000"/>
              </a:buClr>
              <a:buFont typeface="Arial Black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 Black"/>
              </a:rPr>
              <a:t>EL SOCIO RESPONSABLE DEL CONTROL DE LA AD NO JUSTIFICA EL CUMPLIMIENTO DE LOS REQUISITOS DEL Art. 4 reglamento 438/2001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40000"/>
              </a:lnSpc>
              <a:spcBef>
                <a:spcPts val="1375"/>
              </a:spcBef>
              <a:buClr>
                <a:srgbClr val="000000"/>
              </a:buClr>
              <a:buFont typeface="Arial Black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40000"/>
              </a:lnSpc>
              <a:spcBef>
                <a:spcPts val="1375"/>
              </a:spcBef>
              <a:buClr>
                <a:srgbClr val="000000"/>
              </a:buClr>
              <a:buFont typeface="Arial Black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 Black"/>
              </a:rPr>
              <a:t>FALTA DE METODOLOGIA UNIFORME EN LA CERTIFICACIÓN DE GASTOS GENERALES NI INDIVIDUALIZADA POR SOC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40000"/>
              </a:lnSpc>
              <a:spcBef>
                <a:spcPts val="1375"/>
              </a:spcBef>
              <a:buClr>
                <a:srgbClr val="000000"/>
              </a:buClr>
              <a:buFont typeface="Arial Black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A1C4-0F00-49AF-BF56-4446FAD6191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25480" cy="590400"/>
          </a:xfrm>
          <a:prstGeom prst="rect">
            <a:avLst/>
          </a:prstGeom>
          <a:ln w="0">
            <a:noFill/>
          </a:ln>
        </p:spPr>
      </p:pic>
      <p:pic>
        <p:nvPicPr>
          <p:cNvPr id="73" name="esc_C_15" descr=""/>
          <p:cNvPicPr/>
          <p:nvPr/>
        </p:nvPicPr>
        <p:blipFill>
          <a:blip r:embed="rId2"/>
          <a:stretch/>
        </p:blipFill>
        <p:spPr>
          <a:xfrm>
            <a:off x="8305920" y="152280"/>
            <a:ext cx="672840" cy="6955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85800" y="114300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1143000"/>
            <a:ext cx="7696080" cy="51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 Black"/>
              </a:rPr>
              <a:t>CADA SOCIO DEBE LLEVAR CONTABILIDAD SEPARADA O IDENTIFICACION CONTAB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 Black"/>
              </a:rPr>
              <a:t>LAS ACTUACIONES DE  AMPLIACION DE ELEGIBILIDAD DEBEN ESTAR DEFINIDAS EN EL PROYECTO APROBADO Y LOS GASTOS CERTIFICADOS EN ESTE EPÍGRAFE NO DEBEN SOBREPASAR EL PORCENTAJE PREVISTO EN EL COMPLEMENTO DE PROGRAM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40000"/>
              </a:lnSpc>
              <a:spcBef>
                <a:spcPts val="1375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 Black"/>
              </a:rPr>
              <a:t>LOS INGRESOS DEBEN SER MINORADOS EN LA CERTIFICAC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85BA-FE98-4B20-A4BB-ACC1E16EA98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4T22:00:45Z</dcterms:created>
  <dc:creator>borja</dc:creator>
  <dc:description/>
  <dc:language>en-US</dc:language>
  <cp:lastModifiedBy>jp</cp:lastModifiedBy>
  <cp:lastPrinted>2005-02-05T23:48:06Z</cp:lastPrinted>
  <dcterms:modified xsi:type="dcterms:W3CDTF">2005-02-06T01:21:38Z</dcterms:modified>
  <cp:revision>47</cp:revision>
  <dc:subject/>
  <dc:title>Sin título de diapositiva</dc:title>
</cp:coreProperties>
</file>