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528-030C-425C-B8D2-DBC7239B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559-E413-4AE9-8BAF-D8511EA4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548-2D87-47E6-BD07-CD73A906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DAF-8681-4DAB-976F-EC38C1B9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118-9CD8-4FA9-8D2D-DD9EA71B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EEE-EF2F-4501-BDAB-C06268D0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9F9-2D0C-40E8-8552-89F088FE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4FD-418F-41A0-840F-C18FCF9D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640-6A82-4EEA-A55B-D12221D1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4FD-02CE-45D3-8B9A-6DF843DB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682-10F7-443A-978E-D499D293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F07-8C82-468C-9B42-15ED8855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CDFB-8472-4231-B2FE-FB0102676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qual_pre" descr=""/>
          <p:cNvPicPr/>
          <p:nvPr/>
        </p:nvPicPr>
        <p:blipFill>
          <a:blip r:embed="rId3"/>
          <a:stretch/>
        </p:blipFill>
        <p:spPr>
          <a:xfrm>
            <a:off x="8059680" y="774720"/>
            <a:ext cx="1084320" cy="514440"/>
          </a:xfrm>
          <a:prstGeom prst="rect">
            <a:avLst/>
          </a:prstGeom>
          <a:ln w="0">
            <a:noFill/>
          </a:ln>
        </p:spPr>
      </p:pic>
      <p:pic>
        <p:nvPicPr>
          <p:cNvPr id="6" name="BANDERA%20FSE" descr=""/>
          <p:cNvPicPr/>
          <p:nvPr/>
        </p:nvPicPr>
        <p:blipFill>
          <a:blip r:embed="rId4"/>
          <a:stretch/>
        </p:blipFill>
        <p:spPr>
          <a:xfrm>
            <a:off x="8128080" y="122400"/>
            <a:ext cx="85716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38400"/>
            <a:ext cx="77724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4840" y="2657520"/>
            <a:ext cx="666756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252000" bIns="154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00cc"/>
                </a:solidFill>
                <a:latin typeface="Comic Sans MS"/>
              </a:rPr>
              <a:t>La Elegibilidad de los Gastos en 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cc"/>
                </a:solidFill>
                <a:latin typeface="Comic Sans MS"/>
              </a:rPr>
              <a:t>Requisitos Generales para la Elegibilidad (</a:t>
            </a:r>
            <a:r>
              <a:rPr b="1" lang="es-ES_tradnl" sz="3200" spc="-1" strike="noStrike">
                <a:solidFill>
                  <a:srgbClr val="6600cc"/>
                </a:solidFill>
                <a:latin typeface="Comic Sans MS"/>
              </a:rPr>
              <a:t>V</a:t>
            </a:r>
            <a:r>
              <a:rPr b="1" lang="es-ES" sz="3200" spc="-1" strike="noStrike">
                <a:solidFill>
                  <a:srgbClr val="6600cc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Comic Sans MS"/>
              </a:rPr>
              <a:t>Pagos efectuados por el </a:t>
            </a:r>
            <a:r>
              <a:rPr b="1" lang="es-ES_tradnl" sz="2800" spc="-1" strike="noStrike" u="sng">
                <a:solidFill>
                  <a:srgbClr val="6600cc"/>
                </a:solidFill>
                <a:uFillTx/>
                <a:latin typeface="Comic Sans MS"/>
              </a:rPr>
              <a:t>beneficiario final</a:t>
            </a:r>
            <a:r>
              <a:rPr b="0" lang="es-ES_tradnl" sz="28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601"/>
              </a:spcBef>
              <a:buClr>
                <a:srgbClr val="4694a6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694a6"/>
                </a:solidFill>
                <a:latin typeface="Comic Sans MS"/>
              </a:rPr>
              <a:t>La AD es el beneficiario final en Eq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601"/>
              </a:spcBef>
              <a:buClr>
                <a:srgbClr val="4694a6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694a6"/>
                </a:solidFill>
                <a:latin typeface="Comic Sans MS"/>
              </a:rPr>
              <a:t>Los pagos serán efectuados por las entidades socias de la AD, que son aquellas con responsabilidad directa en ordenar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601"/>
              </a:spcBef>
              <a:buClr>
                <a:srgbClr val="4694a6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694a6"/>
                </a:solidFill>
                <a:latin typeface="Comic Sans MS"/>
              </a:rPr>
              <a:t>Para garantizar una pista de auditoria suficiente es necesario que los pagos de las actividades sean realizados por las entidades socias de las 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cc"/>
                </a:solidFill>
                <a:latin typeface="Comic Sans MS"/>
              </a:rPr>
              <a:t>Requisitos Generales para la Elegibilidad (</a:t>
            </a:r>
            <a:r>
              <a:rPr b="1" lang="es-ES_tradnl" sz="3200" spc="-1" strike="noStrike">
                <a:solidFill>
                  <a:srgbClr val="6600cc"/>
                </a:solidFill>
                <a:latin typeface="Comic Sans MS"/>
              </a:rPr>
              <a:t>VI</a:t>
            </a:r>
            <a:r>
              <a:rPr b="1" lang="es-ES" sz="3200" spc="-1" strike="noStrike">
                <a:solidFill>
                  <a:srgbClr val="6600cc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Respeto a las normas de </a:t>
            </a:r>
            <a:r>
              <a:rPr b="1" lang="es-ES_tradnl" sz="2400" spc="-1" strike="noStrike" u="sng">
                <a:solidFill>
                  <a:srgbClr val="6600cc"/>
                </a:solidFill>
                <a:uFillTx/>
                <a:latin typeface="Comic Sans MS"/>
                <a:ea typeface="Arial Unicode MS"/>
              </a:rPr>
              <a:t>información y publicidad</a:t>
            </a:r>
            <a:r>
              <a:rPr b="1" lang="es-ES_tradnl" sz="24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 (Reglamento 1159/2000 sobre publicidad de las actividades cofinanciada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5480" indent="-425160" algn="just">
              <a:lnSpc>
                <a:spcPct val="90000"/>
              </a:lnSpc>
              <a:spcBef>
                <a:spcPts val="499"/>
              </a:spcBef>
              <a:buClr>
                <a:srgbClr val="4694a6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694a6"/>
                </a:solidFill>
                <a:latin typeface="Comic Sans MS"/>
                <a:ea typeface="Arial Unicode MS"/>
              </a:rPr>
              <a:t>Las Ads adoptarán las medidas necesarias para dejar constancia de la procedencia comunitaria de la financiació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5480" indent="-425160" algn="just">
              <a:lnSpc>
                <a:spcPct val="90000"/>
              </a:lnSpc>
              <a:spcBef>
                <a:spcPts val="499"/>
              </a:spcBef>
              <a:buClr>
                <a:srgbClr val="4694a6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694a6"/>
                </a:solidFill>
                <a:latin typeface="Comic Sans MS"/>
                <a:ea typeface="Arial Unicode MS"/>
              </a:rPr>
              <a:t>Se utilizará el logotipo de la Unión Europea indicando el Fondo correspondiente (Fondo Social Europeo) en todos los soportes (materiales y product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5480" indent="-425160" algn="just">
              <a:lnSpc>
                <a:spcPct val="90000"/>
              </a:lnSpc>
              <a:spcBef>
                <a:spcPts val="499"/>
              </a:spcBef>
              <a:buClr>
                <a:srgbClr val="4694a6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694a6"/>
                </a:solidFill>
                <a:latin typeface="Comic Sans MS"/>
                <a:ea typeface="Arial Unicode MS"/>
              </a:rPr>
              <a:t>Durante la ejecución de las actividades del programa de trabajo, se adoptarán medidas de información dirigidas a las personas beneficiarias últimas acerca de su participación en el programa Eq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cc"/>
                </a:solidFill>
                <a:latin typeface="Comic Sans MS"/>
              </a:rPr>
              <a:t>Tipología de Gastos Subvencion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Comic Sans MS"/>
              </a:rPr>
              <a:t>Gastos gen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Comic Sans MS"/>
              </a:rPr>
              <a:t>Gastos de pers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Comic Sans MS"/>
              </a:rPr>
              <a:t>Ayudas directas a personas benefici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Comic Sans MS"/>
              </a:rPr>
              <a:t>Desplazamientos y di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Comic Sans MS"/>
              </a:rPr>
              <a:t>Gastos financieros y legales (incluido el IVA y los gastos de auditori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Comic Sans MS"/>
              </a:rPr>
              <a:t>Gastos de locales y equipamientos (incluidas las amortizacio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Comic Sans MS"/>
              </a:rPr>
              <a:t>Contratación exter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Comic Sans MS"/>
              </a:rPr>
              <a:t>Contribución en espe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Comic Sans MS"/>
              </a:rPr>
              <a:t>Tipología de Gastos Subvencion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GASTOS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Tipo de gasto comprendido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Costes asociados al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funcionamiento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de diferentes servicios del proyecto, de carácter común, tales como la compra de material, fotocopias, correo, teléfono, fax, luz, agua, calefacción, mantenimiento, limpiez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Justificación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Justificación del coste real si se dispone de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factura sepa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Cuando no se disponga de factura separada para los gastos generales de Equal, por tratarse de gastos comunes a varias actividades, éstos se asignarán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a prorrata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utilizando un método equitativo de cálculo, que responda al tiempo de utilización de los recursos comunes y el volumen de los servicios asociados al proye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Organización document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Factura separada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de cada gasto, si se dispone de e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Factura global y documento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en el que se refleje la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metodología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utilizada por cada entidad para el cálculo e imputación de estos gastos y el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porcentaje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de gastos que se impu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Comic Sans MS"/>
              </a:rPr>
              <a:t>Tipología de Gastos Subvencion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GASTOS DE 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Costes imputables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Son imputables los costes del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personal contratado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con carácter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temporal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para la realización de actividades del proyecto, así como los del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personal laboral fijo y personal funcionario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al que se designe para la realización de tareas del proye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Justificación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Personal temporal: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indicación en el contrato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de que éste se realiza para trabajar en el proyecto Equal, incluso cuando se contrata de manera parcial o compart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Personal laboral fijo y personal funcionario: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designación formal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a las tareas del proye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Organización documental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Personal temporal y contratación compartida: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contrato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,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nómina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y documentos justificativos del pago de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impuestos y cargas sociale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Personal laboral fijo, personal funcionario y contratación compartida: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certificación del servicio competente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de la entidad en la que se asignan tareas del proyecto Equal (funciones, tiempo de desempeño y criterios de cálculo),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nómina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y documentos justificativos del pago de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impuestos y cargas sociale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61800"/>
            <a:ext cx="777240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Comic Sans MS"/>
              </a:rPr>
              <a:t>Tipología de Gastos Subvencion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8076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AYUDAS DIRECTAS A PERSONAS BENEFICI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Costes imputables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Ayudas económica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a personas usuarias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destinadas a cubrir necesidade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de transporte, manutención, subsistencia, conciliación, etc., con el fin de facilitar la participación de personas en situación de dificult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Justificación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Coste real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(alimentación, transporte...),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beca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, salarios de inserción, etc., siempre teniendo en cuenta las normas de compatibilidad con otros subsi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Organización documental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Factura con costes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Documento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elaborado conjuntamente para todas las entidades de la AD en el que se establecen las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condiciones para el acceso a las ayudas y las cuantía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a entregar según el tipo de ayu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Documento justificativo de la recepción de la ayuda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por la persona beneficiaria o de la realización de la transacción financi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4768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Comic Sans MS"/>
              </a:rPr>
              <a:t>Tipología de Gastos Subvencion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2848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DESPLAZAMIENTOS Y DI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Costes imputables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Costes de desplazamiento, alojamiento y manutención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referidos a la realización de tareas del proyecto nacional y transn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Justificación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Costes reales de los desplazamientos, del alojamiento y las dieta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percibidas, así como la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adecuación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de éstos a las actividades establecidas en el programa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La AD deberá acordar un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sistema de imputación de gasto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de via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Organización documental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Documentación acreditativa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de la realización de una actividad relativa al proyecto nacional o transnacional (convocatorias, actas de reuniones, firmas de asistentes,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Facturas y otros documentos justificativo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(billetes de avión, tren, bus, factura de hotel, restaurante, etc.), así como documentos justificativos del pago de die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240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Comic Sans MS"/>
              </a:rPr>
              <a:t>Tipología de Gastos Subvencion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04440"/>
            <a:ext cx="77724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GASTOS FINANCIEROS Y LEG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Costes imputables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Se podrán imputar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costes de apertura y mantenimiento de cuenta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bancaria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,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asesoramiento legal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,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notaría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,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asesoramiento técnico y financiero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,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avales o fianzas bancaria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(cuando así lo disponga la normativa), el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IVA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soportado y los gastos de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contabilidad y auditoria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Justificación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Coste real en que se ha incurr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Justificación de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cumplimiento de las condicione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establecidas para la imputación de este tipo de gas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Organización documental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Documento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relativos a las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condiciones y proceso de contratación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de servicios (asesoramiento, auditoria, etc.) y el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contrato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realizado (ver contratación exter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Documentos de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cálculo del IVA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sopor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Facturas u otros documentos justificativos del pago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Comic Sans MS"/>
              </a:rPr>
              <a:t>Tipología de Gastos Subvencion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8540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GASTOS DE LOCALES Y EQUIP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Costes imputables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Costes de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utilización de locale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en régimen de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alquiler o cesión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Costes de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adquisición de equipos y mobiliario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, de utilización en régimen de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alquiler, renting, leasing, cesión o amortización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Justificación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Realización de un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contrato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de alquiler, renting o leasing o coste real de la compra (en caso de adquisición de equipos y mobili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Establecimiento de un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plan contable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de la amort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Tasación o valoración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del local o equipamiento y establecimiento de un sistema para la verificación de su utilización en el proye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Documentación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Alquiler, renting o leasing: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contrato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realizado y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factura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, o factura de compra de equip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Amortización: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plan contable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de amortización, documento con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sistema de imputación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y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factura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de comp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Cesión de locales y equipamiento: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certificados o tasacione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y sistema que permita verificar su utilización (cálculo del tiempo y actividade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Comic Sans MS"/>
              </a:rPr>
              <a:t>Tipología de Gastos Subvencion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80800"/>
            <a:ext cx="777240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CONTRATACIÓN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Costes imputables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La AD (si tiene personalidad jurídica) o cualquiera de sus socios podrá contratar, de forma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excepcional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,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servicios externo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para la realización de aquellas actividades que las entidades socias no pueden realizar por sí mism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Justificación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Cumplimiento de los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principios de transparencia, publicidad y libre concurrencia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Elaboración de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prescripciones técnica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para la contra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cc"/>
                </a:solidFill>
                <a:uFillTx/>
                <a:latin typeface="Comic Sans MS"/>
              </a:rPr>
              <a:t>Documentación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cc"/>
                </a:solidFill>
                <a:latin typeface="Comic Sans MS"/>
              </a:rPr>
              <a:t>Expediente</a:t>
            </a:r>
            <a:r>
              <a:rPr b="0" lang="es-ES" sz="1800" spc="-1" strike="noStrike">
                <a:solidFill>
                  <a:srgbClr val="6600cc"/>
                </a:solidFill>
                <a:latin typeface="Comic Sans MS"/>
              </a:rPr>
              <a:t> por el que se establecen las </a:t>
            </a:r>
            <a:r>
              <a:rPr b="1" lang="es-ES" sz="1800" spc="-1" strike="noStrike">
                <a:solidFill>
                  <a:srgbClr val="6600cc"/>
                </a:solidFill>
                <a:latin typeface="Comic Sans MS"/>
              </a:rPr>
              <a:t>condiciones para la contratación</a:t>
            </a:r>
            <a:r>
              <a:rPr b="0" lang="es-ES" sz="1800" spc="-1" strike="noStrike">
                <a:solidFill>
                  <a:srgbClr val="6600cc"/>
                </a:solidFill>
                <a:latin typeface="Comic Sans MS"/>
              </a:rPr>
              <a:t> y otros documentos justificativos del cumplimiento de los principios de publicidad y libre concurr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cc"/>
                </a:solidFill>
                <a:latin typeface="Comic Sans MS"/>
              </a:rPr>
              <a:t>Contrato</a:t>
            </a:r>
            <a:r>
              <a:rPr b="0" lang="es-ES" sz="1800" spc="-1" strike="noStrike">
                <a:solidFill>
                  <a:srgbClr val="6600cc"/>
                </a:solidFill>
                <a:latin typeface="Comic Sans MS"/>
              </a:rPr>
              <a:t> en el que figuren las prescripciones técnicas para la contratación, así como el sistema de seguimiento y recepción de la acti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cc"/>
                </a:solidFill>
                <a:latin typeface="Comic Sans MS"/>
              </a:rPr>
              <a:t>Factura</a:t>
            </a:r>
            <a:r>
              <a:rPr b="0" lang="es-ES" sz="1800" spc="-1" strike="noStrike">
                <a:solidFill>
                  <a:srgbClr val="6600cc"/>
                </a:solidFill>
                <a:latin typeface="Comic Sans MS"/>
              </a:rPr>
              <a:t> o facturas pagadas de acuerdo con el precio y sistema de pago, y constancia documental de la </a:t>
            </a:r>
            <a:r>
              <a:rPr b="1" lang="es-ES" sz="1800" spc="-1" strike="noStrike">
                <a:solidFill>
                  <a:srgbClr val="6600cc"/>
                </a:solidFill>
                <a:latin typeface="Comic Sans MS"/>
              </a:rPr>
              <a:t>transferencia</a:t>
            </a:r>
            <a:r>
              <a:rPr b="0" lang="es-ES" sz="1800" spc="-1" strike="noStrike">
                <a:solidFill>
                  <a:srgbClr val="6600cc"/>
                </a:solidFill>
                <a:latin typeface="Comic Sans MS"/>
              </a:rPr>
              <a:t> de fon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123920"/>
            <a:ext cx="76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6600cc"/>
                </a:solidFill>
                <a:uFillTx/>
                <a:latin typeface="Comic Sans MS"/>
              </a:rPr>
              <a:t>Requisitos para la eleg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457360"/>
            <a:ext cx="77724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Adecuación a la tipología de actuaciones elegibles (Art. 3 del Reglamento 1784/1999 relativo al FSE y PIC españo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Condiciones </a:t>
            </a:r>
            <a:r>
              <a:rPr b="0" lang="es-ES_tradnl" sz="24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generales </a:t>
            </a:r>
            <a:r>
              <a:rPr b="0" lang="es-ES" sz="24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para la elegi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Adecuación a la tipología de gastos (Reglamento 448/2004 relativo a la financiación de gastos de operaciones cofinanciadas por los Fondos Estructura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cc"/>
                </a:solidFill>
                <a:latin typeface="Comic Sans MS"/>
              </a:rPr>
              <a:t>Tipología de Gastos Subvencion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6600cc"/>
                </a:solidFill>
                <a:uFillTx/>
                <a:latin typeface="Comic Sans MS"/>
              </a:rPr>
              <a:t>CONTRIBUCIÓN EN ESPE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6600cc"/>
                </a:solidFill>
                <a:uFillTx/>
                <a:latin typeface="Comic Sans MS"/>
              </a:rPr>
              <a:t>Costes imputables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Utilización de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locales, equipos y personal voluntario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en las actividades del proyecto, por las que no se realiza una contraprestación diner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6600cc"/>
                </a:solidFill>
                <a:uFillTx/>
                <a:latin typeface="Comic Sans MS"/>
              </a:rPr>
              <a:t>Justificación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Tasación o valoración independiente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 del bien o servicio apor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Las entidades de la AD deberán utilizar un </a:t>
            </a:r>
            <a:r>
              <a:rPr b="1" lang="es-ES_tradnl" sz="1800" spc="-1" strike="noStrike">
                <a:solidFill>
                  <a:srgbClr val="6600cc"/>
                </a:solidFill>
                <a:latin typeface="Comic Sans MS"/>
              </a:rPr>
              <a:t>sistema de cálculo común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, indicando el tiempo de utilización y actividades a las que se adscrib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6600cc"/>
                </a:solidFill>
                <a:uFillTx/>
                <a:latin typeface="Comic Sans MS"/>
              </a:rPr>
              <a:t>Organización documental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cc"/>
                </a:solidFill>
                <a:latin typeface="Comic Sans MS"/>
              </a:rPr>
              <a:t>Documento que acredite la </a:t>
            </a:r>
            <a:r>
              <a:rPr b="1" lang="es-ES" sz="1800" spc="-1" strike="noStrike">
                <a:solidFill>
                  <a:srgbClr val="6600cc"/>
                </a:solidFill>
                <a:latin typeface="Comic Sans MS"/>
              </a:rPr>
              <a:t>metodología de cálculo</a:t>
            </a:r>
            <a:r>
              <a:rPr b="0" lang="es-ES" sz="1800" spc="-1" strike="noStrike">
                <a:solidFill>
                  <a:srgbClr val="6600cc"/>
                </a:solidFill>
                <a:latin typeface="Comic Sans MS"/>
              </a:rPr>
              <a:t> para la imputación de espec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cc"/>
                </a:solidFill>
                <a:latin typeface="Comic Sans MS"/>
              </a:rPr>
              <a:t>Documento de </a:t>
            </a:r>
            <a:r>
              <a:rPr b="1" lang="es-ES" sz="1800" spc="-1" strike="noStrike">
                <a:solidFill>
                  <a:srgbClr val="6600cc"/>
                </a:solidFill>
                <a:latin typeface="Comic Sans MS"/>
              </a:rPr>
              <a:t>tasación</a:t>
            </a:r>
            <a:r>
              <a:rPr b="0" lang="es-ES" sz="1800" spc="-1" strike="noStrike">
                <a:solidFill>
                  <a:srgbClr val="6600cc"/>
                </a:solidFill>
                <a:latin typeface="Comic Sans MS"/>
              </a:rPr>
              <a:t> o por el que se realiza la </a:t>
            </a:r>
            <a:r>
              <a:rPr b="1" lang="es-ES" sz="1800" spc="-1" strike="noStrike">
                <a:solidFill>
                  <a:srgbClr val="6600cc"/>
                </a:solidFill>
                <a:latin typeface="Comic Sans MS"/>
              </a:rPr>
              <a:t>valoración</a:t>
            </a:r>
            <a:r>
              <a:rPr b="0" lang="es-ES" sz="1800" spc="-1" strike="noStrike">
                <a:solidFill>
                  <a:srgbClr val="6600cc"/>
                </a:solidFill>
                <a:latin typeface="Comic Sans MS"/>
              </a:rPr>
              <a:t> de la aportación en espec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cc"/>
                </a:solidFill>
                <a:latin typeface="Comic Sans MS"/>
              </a:rPr>
              <a:t>Documentos que permitan verificar la </a:t>
            </a:r>
            <a:r>
              <a:rPr b="0" lang="es-ES_tradnl" sz="1800" spc="-1" strike="noStrike">
                <a:solidFill>
                  <a:srgbClr val="6600cc"/>
                </a:solidFill>
                <a:latin typeface="Comic Sans MS"/>
              </a:rPr>
              <a:t>utilización de la contribución en actividades del proyecto y la duración</a:t>
            </a:r>
            <a:r>
              <a:rPr b="0" lang="es-ES" sz="1800" spc="-1" strike="noStrike">
                <a:solidFill>
                  <a:srgbClr val="6600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cc"/>
                </a:solidFill>
                <a:latin typeface="Comic Sans MS"/>
              </a:rPr>
              <a:t>DOC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cc"/>
                </a:solidFill>
                <a:latin typeface="Comic Sans MS"/>
              </a:rPr>
              <a:t>Reglamento (CE) nº 1260/1999 por el que se establecen las disposiciones generales sobre los Fondos Estructu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cc"/>
                </a:solidFill>
                <a:latin typeface="Comic Sans MS"/>
              </a:rPr>
              <a:t>Reglamento (CE) nº 1784/1999 relativo al Fondo Social Europ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cc"/>
                </a:solidFill>
                <a:latin typeface="Comic Sans MS"/>
              </a:rPr>
              <a:t>Reglamento (CE) nº 448/2004 relativo a la financiación de gastos de operaciones cofinanciadas por los Fondos Estructu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cc"/>
                </a:solidFill>
                <a:latin typeface="Comic Sans MS"/>
              </a:rPr>
              <a:t>Reglamento (CE) nº 438/2001 relativo a los sistemas de gestión y control de las ayudas otorgadas con cargo a los Fondos Estructu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cc"/>
                </a:solidFill>
                <a:latin typeface="Comic Sans MS"/>
              </a:rPr>
              <a:t>Reglamento (CE) nº 1159/2000 sobre las actividades de información y publicidad en relación con las intervenciones de los Fondos Estructu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cc"/>
                </a:solidFill>
                <a:latin typeface="Comic Sans MS"/>
              </a:rPr>
              <a:t>Orientaciones de la Comisión relativas a la Iniciativa Comunitaria Equ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cc"/>
                </a:solidFill>
                <a:latin typeface="Comic Sans MS"/>
              </a:rPr>
              <a:t>Programa de Iniciativa Comunitaria español, Complemento de Programa y Guía de Gestión y Contr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cc"/>
                </a:solidFill>
                <a:latin typeface="Comic Sans MS"/>
              </a:rPr>
              <a:t>Adecuación a la tipología de actuaciones eleg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Adecuación a la tipología de actuaciones elegibles (art. 3 del Reglamento 1784/1999 relativo al Fondo Social Europeo y PIC españo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Adecuación a las prioridades del Área Temática en la que se enmarca el proyecto. </a:t>
            </a:r>
            <a:r>
              <a:rPr b="0" lang="es-ES" sz="2400" spc="-1" strike="noStrike">
                <a:solidFill>
                  <a:srgbClr val="4694a6"/>
                </a:solidFill>
                <a:latin typeface="Comic Sans MS"/>
              </a:rPr>
              <a:t>Posibilidad de incorporación de actuaciones correspondientes a otras áreas temáticas con carácter complemen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cc"/>
                </a:solidFill>
                <a:latin typeface="Comic Sans MS"/>
              </a:rPr>
              <a:t>Adecuación a los objetivos y actividades del programa de trabajo </a:t>
            </a:r>
            <a:r>
              <a:rPr b="0" lang="es-ES" sz="2400" spc="-1" strike="noStrike">
                <a:solidFill>
                  <a:srgbClr val="4694a6"/>
                </a:solidFill>
                <a:latin typeface="Comic Sans MS"/>
              </a:rPr>
              <a:t>(gastos asociados a una de las actuaciones aprobadas en 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1904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cc"/>
                </a:solidFill>
                <a:latin typeface="Comic Sans MS"/>
              </a:rPr>
              <a:t>Adecuación a la tipología de gastos eleg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90320"/>
            <a:ext cx="77724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cc"/>
                </a:solidFill>
                <a:latin typeface="Comic Sans MS"/>
              </a:rPr>
              <a:t>Adecuación a la tipología de actuaciones elegibles establecida en el art. 3 del Reglamento 1784/1999 y el PIC español</a:t>
            </a:r>
            <a:r>
              <a:rPr b="1" lang="es-ES" sz="24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4694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694a6"/>
                </a:solidFill>
                <a:latin typeface="Comic Sans MS"/>
              </a:rPr>
              <a:t>Asistencia a favor de las personas</a:t>
            </a:r>
            <a:r>
              <a:rPr b="0" lang="es-ES_tradnl" sz="1800" spc="-1" strike="noStrike">
                <a:solidFill>
                  <a:srgbClr val="4694a6"/>
                </a:solidFill>
                <a:latin typeface="Comic Sans MS"/>
              </a:rPr>
              <a:t>: actividades dirigidas a las personas beneficiarias últimas del proye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4694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694a6"/>
                </a:solidFill>
                <a:latin typeface="Comic Sans MS"/>
              </a:rPr>
              <a:t>Estructuras y sistemas</a:t>
            </a:r>
            <a:r>
              <a:rPr b="0" lang="es-ES_tradnl" sz="1800" spc="-1" strike="noStrike">
                <a:solidFill>
                  <a:srgbClr val="4694a6"/>
                </a:solidFill>
                <a:latin typeface="Comic Sans MS"/>
              </a:rPr>
              <a:t>: actividades de puesta en marcha, apoyo o mejora de servicios y estructu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4694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694a6"/>
                </a:solidFill>
                <a:latin typeface="Comic Sans MS"/>
              </a:rPr>
              <a:t>Medidas de acompañamiento</a:t>
            </a:r>
            <a:r>
              <a:rPr b="0" lang="es-ES_tradnl" sz="1800" spc="-1" strike="noStrike">
                <a:solidFill>
                  <a:srgbClr val="4694a6"/>
                </a:solidFill>
                <a:latin typeface="Comic Sans MS"/>
              </a:rPr>
              <a:t>: mecanismos de carácter complementario para facilitar la consecución de las actividades de inse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4694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694a6"/>
                </a:solidFill>
                <a:latin typeface="Comic Sans MS"/>
              </a:rPr>
              <a:t>Asistencia técnica</a:t>
            </a:r>
            <a:r>
              <a:rPr b="0" lang="es-ES_tradnl" sz="1800" spc="-1" strike="noStrike">
                <a:solidFill>
                  <a:srgbClr val="4694a6"/>
                </a:solidFill>
                <a:latin typeface="Comic Sans MS"/>
              </a:rPr>
              <a:t>: actividades preparatorias, de gestión administrativa y control, de coordinación técnica, de evaluación y de publicidad del proye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4694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694a6"/>
                </a:solidFill>
                <a:latin typeface="Comic Sans MS"/>
              </a:rPr>
              <a:t>Ampliación de elegibilidad</a:t>
            </a:r>
            <a:r>
              <a:rPr b="0" lang="es-ES_tradnl" sz="1800" spc="-1" strike="noStrike">
                <a:solidFill>
                  <a:srgbClr val="4694a6"/>
                </a:solidFill>
                <a:latin typeface="Comic Sans MS"/>
              </a:rPr>
              <a:t>: gastos relativos a otros fondos estructu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4694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694a6"/>
                </a:solidFill>
                <a:latin typeface="Comic Sans MS"/>
              </a:rPr>
              <a:t>Transnacionalidad</a:t>
            </a:r>
            <a:r>
              <a:rPr b="0" lang="es-ES_tradnl" sz="1800" spc="-1" strike="noStrike">
                <a:solidFill>
                  <a:srgbClr val="4694a6"/>
                </a:solidFill>
                <a:latin typeface="Comic Sans MS"/>
              </a:rPr>
              <a:t>: actividades realizadas en el marco del programa de trabajo transn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cc"/>
                </a:solidFill>
                <a:latin typeface="Comic Sans MS"/>
              </a:rPr>
              <a:t>Requisitos Generales para la Eleg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418840"/>
            <a:ext cx="777240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cc"/>
                </a:solidFill>
                <a:latin typeface="Comic Sans MS"/>
              </a:rPr>
              <a:t>Gastos verifi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cc"/>
                </a:solidFill>
                <a:latin typeface="Comic Sans MS"/>
              </a:rPr>
              <a:t>Contabilidad separ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cc"/>
                </a:solidFill>
                <a:latin typeface="Comic Sans MS"/>
              </a:rPr>
              <a:t>Periodo de elegi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cc"/>
                </a:solidFill>
                <a:latin typeface="Comic Sans MS"/>
              </a:rPr>
              <a:t>Gastos correspondientes a costes re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cc"/>
                </a:solidFill>
                <a:latin typeface="Comic Sans MS"/>
              </a:rPr>
              <a:t>Pagos efectuados por las entidades beneficiarias fi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cc"/>
                </a:solidFill>
                <a:latin typeface="Comic Sans MS"/>
              </a:rPr>
              <a:t>Respeto a las normas de información y publi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190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cc"/>
                </a:solidFill>
                <a:latin typeface="Comic Sans MS"/>
              </a:rPr>
              <a:t>Requisitos Generales para la Elegibilidad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27704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Gastos </a:t>
            </a:r>
            <a:r>
              <a:rPr b="1" lang="es-ES" sz="2400" spc="-1" strike="noStrike" u="sng">
                <a:solidFill>
                  <a:srgbClr val="6600cc"/>
                </a:solidFill>
                <a:uFillTx/>
                <a:latin typeface="Comic Sans MS"/>
                <a:ea typeface="Arial Unicode MS"/>
              </a:rPr>
              <a:t>verificables</a:t>
            </a:r>
            <a:r>
              <a:rPr b="0" lang="es-ES_tradnl" sz="24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: 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existencia de</a:t>
            </a:r>
            <a:r>
              <a:rPr b="0" lang="es-ES_tradnl" sz="24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 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  <a:ea typeface="Arial Unicode MS"/>
              </a:rPr>
              <a:t>documentación que permita la identificación del trabajo realizado y la veracidad del ga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 algn="just">
              <a:lnSpc>
                <a:spcPct val="90000"/>
              </a:lnSpc>
              <a:spcBef>
                <a:spcPts val="499"/>
              </a:spcBef>
              <a:buClr>
                <a:srgbClr val="4694a6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694a6"/>
                </a:solidFill>
                <a:latin typeface="Comic Sans MS"/>
                <a:ea typeface="Arial Unicode MS"/>
              </a:rPr>
              <a:t>Cada gasto debe ir asociado a una factura original o documento contable de valor probatorio equival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 algn="just">
              <a:lnSpc>
                <a:spcPct val="90000"/>
              </a:lnSpc>
              <a:spcBef>
                <a:spcPts val="499"/>
              </a:spcBef>
              <a:buClr>
                <a:srgbClr val="4694a6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694a6"/>
                </a:solidFill>
                <a:latin typeface="Comic Sans MS"/>
                <a:ea typeface="Arial Unicode MS"/>
              </a:rPr>
              <a:t>Cada entidad debe disponer de un sistema de identificación de las facturas o documentos, de forma que figure su condición de gasto cofinanciado por el FSE en el ámbito de la Iniciativa Equal y el porcentaje imputado al proyecto</a:t>
            </a:r>
            <a:r>
              <a:rPr b="1" lang="es-ES_tradnl" sz="2000" spc="-1" strike="noStrike">
                <a:solidFill>
                  <a:srgbClr val="4694a6"/>
                </a:solidFill>
                <a:latin typeface="Comic Sans MS"/>
                <a:ea typeface="Arial Unicode MS"/>
              </a:rPr>
              <a:t> (sello, troquel o método similar)</a:t>
            </a:r>
            <a:r>
              <a:rPr b="1" lang="es-ES" sz="2000" spc="-1" strike="noStrike">
                <a:solidFill>
                  <a:srgbClr val="4694a6"/>
                </a:solidFill>
                <a:latin typeface="Comic Sans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 algn="just">
              <a:lnSpc>
                <a:spcPct val="90000"/>
              </a:lnSpc>
              <a:spcBef>
                <a:spcPts val="499"/>
              </a:spcBef>
              <a:buClr>
                <a:srgbClr val="4694a6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694a6"/>
                </a:solidFill>
                <a:latin typeface="Comic Sans MS"/>
                <a:ea typeface="Arial Unicode MS"/>
              </a:rPr>
              <a:t>La documentación relativa a la verificación del gasto realizado deberá conservarse a disposición de los organismos de auditoria y control hasta la finalización del plazo previsto en el artículo 38.6 del Reglamento 1260/1999 relativo a los Fondos Estruc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cc"/>
                </a:solidFill>
                <a:latin typeface="Comic Sans MS"/>
              </a:rPr>
              <a:t>Requisitos Generales para la Elegibilidad (I</a:t>
            </a:r>
            <a:r>
              <a:rPr b="1" lang="es-ES_tradnl" sz="3200" spc="-1" strike="noStrike">
                <a:solidFill>
                  <a:srgbClr val="6600cc"/>
                </a:solidFill>
                <a:latin typeface="Comic Sans MS"/>
              </a:rPr>
              <a:t>I</a:t>
            </a:r>
            <a:r>
              <a:rPr b="1" lang="es-ES" sz="3200" spc="-1" strike="noStrike">
                <a:solidFill>
                  <a:srgbClr val="6600cc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857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cc"/>
                </a:solidFill>
                <a:latin typeface="Comic Sans MS"/>
              </a:rPr>
              <a:t>Sistema de </a:t>
            </a:r>
            <a:r>
              <a:rPr b="1" lang="es-ES" sz="2400" spc="-1" strike="noStrike" u="sng">
                <a:solidFill>
                  <a:srgbClr val="6600cc"/>
                </a:solidFill>
                <a:uFillTx/>
                <a:latin typeface="Comic Sans MS"/>
              </a:rPr>
              <a:t>contabilidad separada</a:t>
            </a:r>
            <a:r>
              <a:rPr b="1" lang="es-ES" sz="24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4694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694a6"/>
                </a:solidFill>
                <a:latin typeface="Comic Sans MS"/>
              </a:rPr>
              <a:t>Las entidades socias de la AD deben contar con un sistema de contabilidad separada o una codificación contable que garantice la identificación de los gastos correspondientes al proye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cc"/>
                </a:solidFill>
                <a:latin typeface="Comic Sans MS"/>
              </a:rPr>
              <a:t>Requisitos Generales para la Elegibilidad (I</a:t>
            </a:r>
            <a:r>
              <a:rPr b="1" lang="es-ES_tradnl" sz="3200" spc="-1" strike="noStrike">
                <a:solidFill>
                  <a:srgbClr val="6600cc"/>
                </a:solidFill>
                <a:latin typeface="Comic Sans MS"/>
              </a:rPr>
              <a:t>II</a:t>
            </a:r>
            <a:r>
              <a:rPr b="1" lang="es-ES" sz="3200" spc="-1" strike="noStrike">
                <a:solidFill>
                  <a:srgbClr val="6600cc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Comic Sans MS"/>
              </a:rPr>
              <a:t>Gastos realizados dentro del </a:t>
            </a:r>
            <a:r>
              <a:rPr b="1" lang="es-ES_tradnl" sz="2400" spc="-1" strike="noStrike" u="sng">
                <a:solidFill>
                  <a:srgbClr val="6600cc"/>
                </a:solidFill>
                <a:uFillTx/>
                <a:latin typeface="Comic Sans MS"/>
              </a:rPr>
              <a:t>periodo de elegibilidad</a:t>
            </a:r>
            <a:r>
              <a:rPr b="1" lang="es-ES_tradnl" sz="2400" spc="-1" strike="noStrike">
                <a:solidFill>
                  <a:srgbClr val="6600cc"/>
                </a:solidFill>
                <a:latin typeface="Comic Sans MS"/>
              </a:rPr>
              <a:t>, comprendido entre el 29/03/04 y el 31/12/0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51"/>
              </a:spcBef>
              <a:buClr>
                <a:srgbClr val="4694a6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694a6"/>
                </a:solidFill>
                <a:latin typeface="Comic Sans MS"/>
              </a:rPr>
              <a:t>Fase preparatoria: son gastos elegibles los realizados entre el 29 de marzo de 2004 y la fecha de entrega de los documentos de la fase preparatoria (cuatro meses a contar desde la notificación de la aproba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51"/>
              </a:spcBef>
              <a:buClr>
                <a:srgbClr val="4694a6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694a6"/>
                </a:solidFill>
                <a:latin typeface="Comic Sans MS"/>
              </a:rPr>
              <a:t>Fase de ejecución: son gastos elegibles los comprendidos entre la notificación de la aprobación y el 31 de diciembre de 200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51"/>
              </a:spcBef>
              <a:buClr>
                <a:srgbClr val="4694a6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694a6"/>
                </a:solidFill>
                <a:latin typeface="Comic Sans MS"/>
              </a:rPr>
              <a:t>Acción 3: son gastos elegibles los comprendidos entre la fecha de apertura de la convocatoria de Acción 3 y el 31 de diciembre de 200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6600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cc"/>
                </a:solidFill>
                <a:latin typeface="Comic Sans MS"/>
              </a:rPr>
              <a:t>Requisitos Generales para la Elegibilidad (I</a:t>
            </a:r>
            <a:r>
              <a:rPr b="1" lang="es-ES_tradnl" sz="3200" spc="-1" strike="noStrike">
                <a:solidFill>
                  <a:srgbClr val="6600cc"/>
                </a:solidFill>
                <a:latin typeface="Comic Sans MS"/>
              </a:rPr>
              <a:t>V</a:t>
            </a:r>
            <a:r>
              <a:rPr b="1" lang="es-ES" sz="3200" spc="-1" strike="noStrike">
                <a:solidFill>
                  <a:srgbClr val="6600cc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Comic Sans MS"/>
              </a:rPr>
              <a:t>Gastos correspondientes a </a:t>
            </a:r>
            <a:r>
              <a:rPr b="1" lang="es-ES_tradnl" sz="2400" spc="-1" strike="noStrike" u="sng">
                <a:solidFill>
                  <a:srgbClr val="6600cc"/>
                </a:solidFill>
                <a:uFillTx/>
                <a:latin typeface="Comic Sans MS"/>
              </a:rPr>
              <a:t>costes reales</a:t>
            </a:r>
            <a:r>
              <a:rPr b="1" lang="es-ES_tradnl" sz="2400" spc="-1" strike="noStrike">
                <a:solidFill>
                  <a:srgbClr val="6600cc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4694a6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694a6"/>
                </a:solidFill>
                <a:latin typeface="Comic Sans MS"/>
              </a:rPr>
              <a:t>Las entidades socias de la AD imputarán al proyecto los costes reales en los que hayan incurr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4694a6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694a6"/>
                </a:solidFill>
                <a:latin typeface="Comic Sans MS"/>
                <a:ea typeface="Arial Unicode MS"/>
              </a:rPr>
              <a:t>L</a:t>
            </a:r>
            <a:r>
              <a:rPr b="1" lang="es-ES" sz="2000" spc="-1" strike="noStrike">
                <a:solidFill>
                  <a:srgbClr val="4694a6"/>
                </a:solidFill>
                <a:latin typeface="Comic Sans MS"/>
                <a:ea typeface="Arial Unicode MS"/>
              </a:rPr>
              <a:t>as entidades socias de la AD no podrán ser contratadas por la AD ni participar como subcontratadas de otra empresa que preste servicios a la AD</a:t>
            </a:r>
            <a:r>
              <a:rPr b="1" lang="es-ES_tradnl" sz="2000" spc="-1" strike="noStrike">
                <a:solidFill>
                  <a:srgbClr val="4694a6"/>
                </a:solidFill>
                <a:latin typeface="Comic Sans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4694a6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694a6"/>
                </a:solidFill>
                <a:latin typeface="Comic Sans MS"/>
              </a:rPr>
              <a:t>Los pagos se realizarán en efectivo, salvo los correspondientes a la imputación de especie y amortiz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ESCUDO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730080" cy="74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09:58:15Z</dcterms:created>
  <dc:creator>Soledad Queipo</dc:creator>
  <dc:description>Modificada quitando el 3D y el fondo de color
</dc:description>
  <dc:language>en-US</dc:language>
  <cp:lastModifiedBy>MIRIAM</cp:lastModifiedBy>
  <cp:lastPrinted>2000-12-12T08:59:52Z</cp:lastPrinted>
  <dcterms:modified xsi:type="dcterms:W3CDTF">2005-03-17T19:58:03Z</dcterms:modified>
  <cp:revision>246</cp:revision>
  <dc:subject/>
  <dc:title>Sin título de diapositiva</dc:title>
</cp:coreProperties>
</file>