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SCUDO" descr=""/>
          <p:cNvPicPr/>
          <p:nvPr/>
        </p:nvPicPr>
        <p:blipFill>
          <a:blip r:embed="rId2"/>
          <a:stretch/>
        </p:blipFill>
        <p:spPr>
          <a:xfrm>
            <a:off x="0" y="0"/>
            <a:ext cx="790560" cy="746280"/>
          </a:xfrm>
          <a:prstGeom prst="rect">
            <a:avLst/>
          </a:prstGeom>
          <a:ln w="0">
            <a:noFill/>
          </a:ln>
        </p:spPr>
      </p:pic>
      <p:pic>
        <p:nvPicPr>
          <p:cNvPr id="1" name="BANDERA%20FSE" descr="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628560"/>
          </a:xfrm>
          <a:prstGeom prst="rect">
            <a:avLst/>
          </a:prstGeom>
          <a:ln w="0">
            <a:noFill/>
          </a:ln>
        </p:spPr>
      </p:pic>
      <p:pic>
        <p:nvPicPr>
          <p:cNvPr id="2" name="equal_pre" descr=""/>
          <p:cNvPicPr/>
          <p:nvPr/>
        </p:nvPicPr>
        <p:blipFill>
          <a:blip r:embed="rId4"/>
          <a:stretch/>
        </p:blipFill>
        <p:spPr>
          <a:xfrm>
            <a:off x="4167360" y="122400"/>
            <a:ext cx="1417320" cy="62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420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Times New Roman"/>
              </a:rPr>
              <a:t>Gestión del </a:t>
            </a:r>
            <a:br>
              <a:rPr sz="4800"/>
            </a:br>
            <a:r>
              <a:rPr b="1" lang="es-ES_tradnl" sz="4800" spc="-1" strike="noStrike">
                <a:solidFill>
                  <a:srgbClr val="3333cc"/>
                </a:solidFill>
                <a:latin typeface="Times New Roman"/>
              </a:rPr>
              <a:t>Módulo de Seguimiento EQUAL</a:t>
            </a:r>
            <a:br>
              <a:rPr sz="4800"/>
            </a:br>
            <a:br>
              <a:rPr sz="48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adrid, 18 de marz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920" y="55623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Unidad Administradora del Fondo Social Europ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CUDO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1158840" cy="1092240"/>
          </a:xfrm>
          <a:prstGeom prst="rect">
            <a:avLst/>
          </a:prstGeom>
          <a:ln w="0">
            <a:noFill/>
          </a:ln>
        </p:spPr>
      </p:pic>
      <p:pic>
        <p:nvPicPr>
          <p:cNvPr id="44" name="BANDERA%20FSE" descr=""/>
          <p:cNvPicPr/>
          <p:nvPr/>
        </p:nvPicPr>
        <p:blipFill>
          <a:blip r:embed="rId2"/>
          <a:stretch/>
        </p:blipFill>
        <p:spPr>
          <a:xfrm>
            <a:off x="7624800" y="0"/>
            <a:ext cx="151920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33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2057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041120" y="1062000"/>
            <a:ext cx="71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Instalar el certificado: ir a la página de internet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comprobar si está pendiente o autor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90720" y="4190760"/>
            <a:ext cx="7617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400800" y="4495680"/>
            <a:ext cx="7621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193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066680"/>
          <a:ext cx="7619760" cy="57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1976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912400" y="43797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ertificado 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86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1066680"/>
          <a:ext cx="8305560" cy="621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0556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189520" y="437976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ertificado autorizado: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838080"/>
          <a:ext cx="76201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flipV="1">
            <a:off x="762120" y="2895480"/>
            <a:ext cx="7617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33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914400"/>
          <a:ext cx="792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92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flipV="1">
            <a:off x="3352680" y="4495680"/>
            <a:ext cx="7621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838080"/>
          <a:ext cx="8001000" cy="60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543760" y="39988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stalación completada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179360"/>
            <a:ext cx="80773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entury Gothic"/>
              </a:rPr>
              <a:t>Requisitos del sistema para la insta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entury Gothic"/>
                <a:ea typeface="Tahoma"/>
              </a:rPr>
              <a:t>Sistema operativo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Microsoft Windows 98 Second E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Microsoft Windows NT4.0 con SP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Microsoft Windows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Microsoft Windows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Microsoft Windows XP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entury Gothic"/>
                <a:ea typeface="Tahoma"/>
              </a:rPr>
              <a:t>Naveg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Microsoft Internet Explorer 6.0 con SP 1 o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219320"/>
            <a:ext cx="75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entury Gothic"/>
              </a:rPr>
              <a:t>Acceso al Módulo de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entury Gothic"/>
              </a:rPr>
              <a:t>En unos días estará ya activa la págin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entury Gothic"/>
              </a:rPr>
              <a:t>Internet para el acceso al MSE (se indicará la dirección web por email a las A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entury Gothic"/>
              </a:rPr>
              <a:t>Para ello se neces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entury Gothic"/>
              </a:rPr>
              <a:t>tener instalado el certificado de acceso en el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entury Gothic"/>
              </a:rPr>
              <a:t>las claves de acceso facilitadas por la UAF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06668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entury Gothic"/>
              </a:rPr>
              <a:t>Secciones principales del M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1.- Dato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2.-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3.- Ámbito Ge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4.- Proyecto Na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5.- Presu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6.- Transn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7.- Principios Transver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8.- Actu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9.- Ejecu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10.- Seguimient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entury Gothic"/>
              </a:rPr>
              <a:t>IMPORTANTE: no olvide entrar en  todas las sub-secciones (signo + en recuadro) y pesta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6629040" y="3429000"/>
            <a:ext cx="11430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562360" y="2514600"/>
            <a:ext cx="20574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7238520" y="1599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095880" y="1219320"/>
            <a:ext cx="19814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219320" y="3657240"/>
            <a:ext cx="632448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60040" y="95076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d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16480" y="1676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55760" y="22860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esta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04080" y="323676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 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8480" y="4648320"/>
            <a:ext cx="144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n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 la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62320" y="64771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7880" y="6334200"/>
            <a:ext cx="15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arr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entury Gothic"/>
              </a:rPr>
              <a:t>Fuentes de in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entury Gothic"/>
              </a:rPr>
              <a:t>Guía de uso del Módulo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entury Gothic"/>
              </a:rPr>
              <a:t>Seguimiento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11280" y="343836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ROBAR LA CO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NTRE ÁMBITO GEOGRÁFIC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STRIBUCIÓN TERRI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133360" y="3200040"/>
            <a:ext cx="2057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666880" y="3962520"/>
            <a:ext cx="14479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4352760"/>
            <a:ext cx="654480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l sistema permite modificar provincias y localidad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 Comunidades Autóno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886200" y="2361960"/>
            <a:ext cx="152280" cy="19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5560" y="1295280"/>
            <a:ext cx="74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ando pulsamos en EDITAR aparecen los bo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BAR y CANCELAR, para poder guardar el 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a vez introducido o cancelar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2057400"/>
            <a:ext cx="167652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71600" y="5486040"/>
            <a:ext cx="35812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 flipV="1">
            <a:off x="2285640" y="4571640"/>
            <a:ext cx="2057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35160" y="2133720"/>
            <a:ext cx="53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olvide revisar todas las pant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ra actualizar la infor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y traducciones) -&gt; EC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209320" y="2514600"/>
            <a:ext cx="83844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22360" y="5029200"/>
            <a:ext cx="799704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Durante la fase de perfeccionamient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 podrá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ar de alta, modificar o dar de baja socios. AHO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ólo se pued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odificar dato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de los socios pul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D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47600" y="3505320"/>
            <a:ext cx="41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PARTADOS DEL 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048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19840" y="4876920"/>
            <a:ext cx="637272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NA VEZ INTRODUCIDOS LOS DATO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L SISTEMA AVISA SI HAY INCOH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629400" y="57150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2680"/>
            <a:ext cx="11430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59200" y="16747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5. Presu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9160" y="487692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JO: el 1% de acción 3 se detrae automát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876560" y="2743200"/>
            <a:ext cx="6858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4960" y="5791320"/>
            <a:ext cx="197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CCION 3: 20.000 E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NCEDIDO: 2 ME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OLICITADO: 3 ME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9200" y="2676600"/>
            <a:ext cx="309600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No incluir nada de acc.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33720" y="525780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114800" y="3352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18520" y="3438360"/>
            <a:ext cx="332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9. EJECUCIÓN: 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 CERTIFICACIÓN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CLA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 GASTOS,PETI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GO (+ ACTIVIDA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4114800" y="335268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53680" y="2981160"/>
            <a:ext cx="322272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eterminar zon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280" y="5851440"/>
            <a:ext cx="9062640" cy="100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L SISTEMA TOMA AUTOMÁTICAMENTE LOS DATOS INTRODUCIDO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ASTOS”, POR LO QUE HAY QUE INTRODUCIRLOS ANTES DE EMI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ERTIFICACIÓN Y DECLARACIÓN DE 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3880" y="2209680"/>
            <a:ext cx="2743200" cy="411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71600"/>
            <a:ext cx="86104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entury Gothic"/>
              </a:rPr>
              <a:t>Objetivos del módulo de seguimiento (M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entury Gothic"/>
              </a:rPr>
              <a:t>Recoger información sistemática, individualizada y actualizada de los proye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entury Gothic"/>
              </a:rPr>
              <a:t>Transmitir datos a la ECD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entury Gothic"/>
              </a:rPr>
              <a:t>Seguimiento de la ejecución financi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entury Gothic"/>
              </a:rPr>
              <a:t>Certificar los gastos realizados y solicitar los correspondientes pa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44600" y="5181480"/>
            <a:ext cx="584856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 esta pestaña irán los gastos de acción 3 (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48120" y="2819160"/>
            <a:ext cx="3124080" cy="2438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5486400"/>
            <a:ext cx="6094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58000" y="3733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21320" y="5952960"/>
            <a:ext cx="747612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QUÍ SE PUEDE DAR DE ALTA, CONSULTAR O IMPRIMIR 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ETICIÓN DE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6120" y="1066680"/>
            <a:ext cx="522972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JO: LAS CERTIFICACIONES DE UN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ÑO SON ACUMUL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123720" y="1752480"/>
            <a:ext cx="7621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304920" y="4419360"/>
            <a:ext cx="76176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2819520" y="2057400"/>
            <a:ext cx="76176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2590920" y="3504960"/>
            <a:ext cx="76176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3200400" y="2819160"/>
            <a:ext cx="76212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822960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entury Gothic"/>
              </a:rPr>
              <a:t>Procedimiento para el acceso al módulo de seguimiento (M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entury Gothic"/>
              </a:rPr>
              <a:t>Comunicar por escrito a la UAFSE lista de usuari@s: Nombre, AD y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entury Gothic"/>
              </a:rPr>
              <a:t>Pedir desde su PC por internet certificado de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entury Gothic"/>
              </a:rPr>
              <a:t>La UAFSE comunicará claves de acceso p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entury Gothic"/>
              </a:rPr>
              <a:t>Cada usuari@ debe recoger su certificado en la dirección de internet ANTES DE 10 DÍAS e instal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entury Gothic"/>
              </a:rPr>
              <a:t>Acceso al MSE: claves + cert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762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entury Gothic"/>
              </a:rPr>
              <a:t>Solicitar el cert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Century Gothic"/>
              </a:rPr>
              <a:t>Entrar en la página de internet https://mtas2.mtas.es/CERTS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051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2325600"/>
            <a:ext cx="7086600" cy="4532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4419720"/>
            <a:ext cx="6094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5029200"/>
            <a:ext cx="6094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954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858960"/>
            <a:ext cx="7848360" cy="563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2971800"/>
            <a:ext cx="6094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4495680"/>
            <a:ext cx="6094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66680" y="1295280"/>
          <a:ext cx="77724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7724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H="1">
            <a:off x="3809880" y="327672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0481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AL + nombre del so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presen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162920" y="5029200"/>
            <a:ext cx="7617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71600" y="4647960"/>
            <a:ext cx="7621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30040" y="50706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990720"/>
          <a:ext cx="830592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30592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3505320" y="4114800"/>
            <a:ext cx="7617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162920" y="4724280"/>
            <a:ext cx="7617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33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990720"/>
          <a:ext cx="7543800" cy="56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001320" y="415116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etición registrada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1:28:20Z</dcterms:created>
  <dc:creator>MTAS</dc:creator>
  <dc:description/>
  <dc:language>en-US</dc:language>
  <cp:lastModifiedBy>MTAS</cp:lastModifiedBy>
  <dcterms:modified xsi:type="dcterms:W3CDTF">2005-03-16T09:46:30Z</dcterms:modified>
  <cp:revision>14</cp:revision>
  <dc:subject/>
  <dc:title>Gestión del  Módulo de Seguimiento EQUAL  Madrid, 18 de marzo 2005</dc:title>
</cp:coreProperties>
</file>