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7545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F7F7-F77C-45D4-8B04-2C40177A2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0892-7BA1-4736-B42D-380A7A0B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0E9E-6872-4063-BCBF-43A1DC25C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DFFA-1511-4055-AA55-B003C699A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707A-ECC5-497A-8366-71E6CCFA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4DD1-8576-428A-8FD2-43A159AA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16F5-E7F7-44B6-8A42-9D61143B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92E6-028F-4F64-8455-0C3CB858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A3F1-F17C-48A7-AEB2-2AFAE537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F47F-97D3-4C85-ABC7-4C3E2EA4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3772-6480-45A2-8DE7-E0533086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BF6A-EBEE-4D97-9835-E4535B58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DA5D-CBE8-4D53-8ABB-384B7BC0A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qual_pre" descr=""/>
          <p:cNvPicPr/>
          <p:nvPr/>
        </p:nvPicPr>
        <p:blipFill>
          <a:blip r:embed="rId3"/>
          <a:stretch/>
        </p:blipFill>
        <p:spPr>
          <a:xfrm>
            <a:off x="8059680" y="774720"/>
            <a:ext cx="1084320" cy="514440"/>
          </a:xfrm>
          <a:prstGeom prst="rect">
            <a:avLst/>
          </a:prstGeom>
          <a:ln w="0">
            <a:noFill/>
          </a:ln>
        </p:spPr>
      </p:pic>
      <p:pic>
        <p:nvPicPr>
          <p:cNvPr id="6" name="BANDERA%20FSE" descr=""/>
          <p:cNvPicPr/>
          <p:nvPr/>
        </p:nvPicPr>
        <p:blipFill>
          <a:blip r:embed="rId4"/>
          <a:stretch/>
        </p:blipFill>
        <p:spPr>
          <a:xfrm>
            <a:off x="8128080" y="122400"/>
            <a:ext cx="857160" cy="62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ESCUDO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730080" cy="745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1134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85760" y="2314440"/>
            <a:ext cx="6667560" cy="20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252000" bIns="154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6600cc"/>
                </a:solidFill>
                <a:latin typeface="Comic Sans MS"/>
              </a:rPr>
              <a:t>Acuerdo de Constitución de Agrupación de Desarrol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6600cc"/>
                </a:solidFill>
                <a:latin typeface="Comic Sans MS"/>
              </a:rPr>
              <a:t>AC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680" y="1143000"/>
            <a:ext cx="748656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6600cc"/>
                </a:solidFill>
                <a:latin typeface="Comic Sans MS"/>
              </a:rPr>
              <a:t>Aceptación de la UAF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3960" y="2800440"/>
            <a:ext cx="7772400" cy="36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cc"/>
                </a:solidFill>
                <a:latin typeface="Comic Sans MS"/>
                <a:ea typeface="Arial Unicode MS"/>
              </a:rPr>
              <a:t>Una vez revisada la documentación presentada por la Estructura de Apoyo, la UAFSE notificará por escrito su acep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ESCUDO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730080" cy="74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cc"/>
                </a:solidFill>
                <a:latin typeface="Comic Sans MS"/>
              </a:rPr>
              <a:t>DOCU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ESCUDO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730080" cy="74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87588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6600cc"/>
                </a:solidFill>
                <a:latin typeface="Comic Sans MS"/>
              </a:rPr>
              <a:t>Fase de Perfec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7772400" cy="40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cc"/>
                </a:solidFill>
                <a:latin typeface="Comic Sans MS"/>
                <a:ea typeface="Arial Unicode MS"/>
              </a:rPr>
              <a:t>Presentación ACAD + Revisión programa de trabajo y presupu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cc"/>
                </a:solidFill>
                <a:latin typeface="Comic Sans MS"/>
                <a:ea typeface="Arial Unicode MS"/>
              </a:rPr>
              <a:t>Compromisos de cofinanciación (cuando sea necesari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cc"/>
                </a:solidFill>
                <a:latin typeface="Comic Sans MS"/>
                <a:ea typeface="Arial Unicode MS"/>
              </a:rPr>
              <a:t>Plazo máximo: 4 meses desde la recepción de resolución aprobat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ESCUDO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730080" cy="74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04880" y="800280"/>
            <a:ext cx="7696080" cy="9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6600cc"/>
                </a:solidFill>
                <a:latin typeface="Comic Sans MS"/>
              </a:rPr>
              <a:t>Formalización ACAD</a:t>
            </a:r>
            <a:br>
              <a:rPr sz="3600"/>
            </a:br>
            <a:r>
              <a:rPr b="1" lang="es-ES" sz="3600" spc="-1" strike="noStrike">
                <a:solidFill>
                  <a:srgbClr val="6600cc"/>
                </a:solidFill>
                <a:latin typeface="Comic Sans MS"/>
              </a:rPr>
              <a:t>Posibilidad de vari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495520"/>
            <a:ext cx="77724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cc"/>
                </a:solidFill>
                <a:latin typeface="Comic Sans MS"/>
                <a:ea typeface="Arial Unicode MS"/>
              </a:rPr>
              <a:t>Respecto a las entidades firmantes de los compromisos iniciales (solicitu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cc"/>
                </a:solidFill>
                <a:latin typeface="Comic Sans MS"/>
                <a:ea typeface="Arial Unicode MS"/>
              </a:rPr>
              <a:t>Altas y bajas en entidades socias durante el desarrollo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cc"/>
                </a:solidFill>
                <a:latin typeface="Comic Sans MS"/>
                <a:ea typeface="Arial Unicode MS"/>
              </a:rPr>
              <a:t>Modificaciones en el Programa de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ESCUDO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730080" cy="74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1123920"/>
            <a:ext cx="76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6600cc"/>
                </a:solidFill>
                <a:latin typeface="Comic Sans MS"/>
              </a:rPr>
              <a:t>Principio de capacitación y ejecución material del proy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457360"/>
            <a:ext cx="7772400" cy="36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cc"/>
                </a:solidFill>
                <a:latin typeface="Comic Sans MS"/>
                <a:ea typeface="Arial Unicode MS"/>
              </a:rPr>
              <a:t>“</a:t>
            </a:r>
            <a:r>
              <a:rPr b="0" lang="es-ES" sz="3200" spc="-1" strike="noStrike">
                <a:solidFill>
                  <a:srgbClr val="6600cc"/>
                </a:solidFill>
                <a:latin typeface="Comic Sans MS"/>
                <a:ea typeface="Arial Unicode MS"/>
              </a:rPr>
              <a:t>Son los socios los que deben ejecutar las actuaciones directamente por sí y por sus propios medio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cc"/>
                </a:solidFill>
                <a:latin typeface="Comic Sans MS"/>
                <a:ea typeface="Arial Unicode MS"/>
              </a:rPr>
              <a:t>Aquellas entidades que vayan a ejecutar acciones del programa de trabajo y, por lo tanto, justificar gastos deben formar parte de la 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ESCUDO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730080" cy="74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680" y="1143000"/>
            <a:ext cx="748656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6600cc"/>
                </a:solidFill>
                <a:latin typeface="Comic Sans MS"/>
              </a:rPr>
              <a:t>Instrumento de Formalización del AC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457360"/>
            <a:ext cx="7772400" cy="36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cc"/>
                </a:solidFill>
                <a:latin typeface="Comic Sans MS"/>
                <a:ea typeface="Arial Unicode MS"/>
              </a:rPr>
              <a:t>Modelo ACAD indicativo, pero todo su contenido es obligato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cc"/>
                </a:solidFill>
                <a:latin typeface="Comic Sans MS"/>
                <a:ea typeface="Arial Unicode MS"/>
              </a:rPr>
              <a:t>AD con o sin personalidad jurídica propia. Decisión de las entidades que la compo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ESCUDO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730080" cy="74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680" y="1143000"/>
            <a:ext cx="748656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6600cc"/>
                </a:solidFill>
                <a:latin typeface="Comic Sans MS"/>
              </a:rPr>
              <a:t>Presentación del AC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457360"/>
            <a:ext cx="7772400" cy="36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cc"/>
                </a:solidFill>
                <a:latin typeface="Comic Sans MS"/>
                <a:ea typeface="Arial Unicode MS"/>
              </a:rPr>
              <a:t>ACAD: firmas y sellos originales en una hoja o en hojas disti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cc"/>
                </a:solidFill>
                <a:latin typeface="Comic Sans MS"/>
                <a:ea typeface="Arial Unicode MS"/>
              </a:rPr>
              <a:t>Compromisos de cofinanciación: firmas y sellos origi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cc"/>
                </a:solidFill>
                <a:latin typeface="Comic Sans MS"/>
                <a:ea typeface="Arial Unicode MS"/>
              </a:rPr>
              <a:t>Una sola copia a la UAF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ESCUDO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730080" cy="74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680" y="1143000"/>
            <a:ext cx="748656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6600cc"/>
                </a:solidFill>
                <a:latin typeface="Comic Sans MS"/>
              </a:rPr>
              <a:t>Contenido del ACAD</a:t>
            </a:r>
            <a:br>
              <a:rPr sz="3600"/>
            </a:br>
            <a:r>
              <a:rPr b="1" lang="es-ES" sz="3600" spc="-1" strike="noStrike">
                <a:solidFill>
                  <a:srgbClr val="6600cc"/>
                </a:solidFill>
                <a:latin typeface="Comic Sans MS"/>
              </a:rPr>
              <a:t>I Disposicione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152800"/>
            <a:ext cx="7772400" cy="39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00cc"/>
                </a:solidFill>
                <a:latin typeface="Comic Sans MS"/>
                <a:ea typeface="Arial Unicode MS"/>
              </a:rPr>
              <a:t>7º Entidad represen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00cc"/>
                </a:solidFill>
                <a:latin typeface="Comic Sans MS"/>
                <a:ea typeface="Arial Unicode MS"/>
              </a:rPr>
              <a:t>8º Entidad que asume las tareas d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00cc"/>
                </a:solidFill>
                <a:latin typeface="Comic Sans MS"/>
                <a:ea typeface="Arial Unicode MS"/>
              </a:rPr>
              <a:t>9º Sistema de control y de gestión del proyecto (pista de auditoría. Reg. (CE) 438/200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SCUDO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730080" cy="74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680" y="1143000"/>
            <a:ext cx="748656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6600cc"/>
                </a:solidFill>
                <a:latin typeface="Comic Sans MS"/>
              </a:rPr>
              <a:t>Contenido del ACAD</a:t>
            </a:r>
            <a:br>
              <a:rPr sz="3600"/>
            </a:br>
            <a:r>
              <a:rPr b="1" lang="es-ES" sz="3600" spc="-1" strike="noStrike">
                <a:solidFill>
                  <a:srgbClr val="6600cc"/>
                </a:solidFill>
                <a:latin typeface="Comic Sans MS"/>
              </a:rPr>
              <a:t>II Fichas de participación de los soc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3960" y="2800440"/>
            <a:ext cx="7772400" cy="36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cc"/>
                </a:solidFill>
                <a:latin typeface="Comic Sans MS"/>
                <a:ea typeface="Arial Unicode MS"/>
              </a:rPr>
              <a:t>Son obligatorias en todo su conten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cc"/>
                </a:solidFill>
                <a:latin typeface="Comic Sans MS"/>
                <a:ea typeface="Arial Unicode MS"/>
              </a:rPr>
              <a:t>Detallar funciones y actuaciones en las que cada entidad partici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cc"/>
                </a:solidFill>
                <a:latin typeface="Comic Sans MS"/>
                <a:ea typeface="Arial Unicode MS"/>
              </a:rPr>
              <a:t>Concretar presupuesto a ejecutar por cada ent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ESCUDO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730080" cy="74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1680" y="894960"/>
            <a:ext cx="74865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6600cc"/>
                </a:solidFill>
                <a:latin typeface="Comic Sans MS"/>
              </a:rPr>
              <a:t>Contenido del ACAD</a:t>
            </a:r>
            <a:br>
              <a:rPr sz="3600"/>
            </a:br>
            <a:r>
              <a:rPr b="1" lang="es-ES" sz="3600" spc="-1" strike="noStrike">
                <a:solidFill>
                  <a:srgbClr val="6600cc"/>
                </a:solidFill>
                <a:latin typeface="Comic Sans MS"/>
              </a:rPr>
              <a:t>III Declar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3960" y="2552760"/>
            <a:ext cx="7772400" cy="36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cc"/>
                </a:solidFill>
                <a:latin typeface="Comic Sans MS"/>
                <a:ea typeface="Arial Unicode MS"/>
              </a:rPr>
              <a:t>Son todas obligatorias para todas las entidades firmantes del AC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cc"/>
                </a:solidFill>
                <a:latin typeface="Comic Sans MS"/>
                <a:ea typeface="Arial Unicode MS"/>
              </a:rPr>
              <a:t>2ª Asunción de responsabilidad solid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ESCUDO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730080" cy="745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09:58:15Z</dcterms:created>
  <dc:creator>Soledad Queipo</dc:creator>
  <dc:description>Modificada quitando el 3D y el fondo de color
</dc:description>
  <dc:language>en-US</dc:language>
  <cp:lastModifiedBy>MTAS</cp:lastModifiedBy>
  <cp:lastPrinted>2000-12-12T08:59:52Z</cp:lastPrinted>
  <dcterms:modified xsi:type="dcterms:W3CDTF">2005-03-17T13:53:38Z</dcterms:modified>
  <cp:revision>266</cp:revision>
  <dc:subject/>
  <dc:title>Sin título de diapositiva</dc:title>
</cp:coreProperties>
</file>