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E2F-9A3D-4C9C-B50D-B6B51C81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DAA-16A8-4E3B-AB6D-48C9EA7CC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2292-4087-4569-8B76-C31F15BE3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37E9-631B-45A0-9710-8AB1F95C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D600-FD8D-43BC-A57D-A9F3F9A0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AA7E-9ADB-47CD-95EC-CEA13096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CC7F-AE9A-4486-8A4C-CF92A93D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956-80F1-41DD-A912-BEC554AB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D41E-229C-4744-9AA2-8D4B90C9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476-DCBC-4913-810D-9153E060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96E-8EA5-44D9-859A-27017DAB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009-2377-4F7D-AF2B-CA1B3D39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ABDA-1C52-4D9B-9892-530078E1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SCUDO" descr=""/>
          <p:cNvPicPr/>
          <p:nvPr/>
        </p:nvPicPr>
        <p:blipFill>
          <a:blip r:embed="rId2"/>
          <a:stretch/>
        </p:blipFill>
        <p:spPr>
          <a:xfrm>
            <a:off x="155520" y="122400"/>
            <a:ext cx="790560" cy="745920"/>
          </a:xfrm>
          <a:prstGeom prst="rect">
            <a:avLst/>
          </a:prstGeom>
          <a:ln w="0">
            <a:noFill/>
          </a:ln>
        </p:spPr>
      </p:pic>
      <p:pic>
        <p:nvPicPr>
          <p:cNvPr id="6" name="equal_pre" descr=""/>
          <p:cNvPicPr/>
          <p:nvPr/>
        </p:nvPicPr>
        <p:blipFill>
          <a:blip r:embed="rId3"/>
          <a:stretch/>
        </p:blipFill>
        <p:spPr>
          <a:xfrm>
            <a:off x="4167360" y="122400"/>
            <a:ext cx="1417320" cy="620640"/>
          </a:xfrm>
          <a:prstGeom prst="rect">
            <a:avLst/>
          </a:prstGeom>
          <a:ln w="0">
            <a:noFill/>
          </a:ln>
        </p:spPr>
      </p:pic>
      <p:pic>
        <p:nvPicPr>
          <p:cNvPr id="7" name="BANDERA%20FSE" descr=""/>
          <p:cNvPicPr/>
          <p:nvPr/>
        </p:nvPicPr>
        <p:blipFill>
          <a:blip r:embed="rId4"/>
          <a:stretch/>
        </p:blipFill>
        <p:spPr>
          <a:xfrm>
            <a:off x="8805960" y="122400"/>
            <a:ext cx="92844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qual.cec.eu.int/equal/jsp/index.jsp?lang=en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Gestión de la </a:t>
            </a:r>
            <a:br>
              <a:rPr sz="4800"/>
            </a:b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ECDB y de la ETCIM para la Cooperación Transnacional</a:t>
            </a:r>
            <a:br>
              <a:rPr sz="4800"/>
            </a:br>
            <a:br>
              <a:rPr sz="4800"/>
            </a:b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Jornada 10 de marzo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55623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idad Administradora del Fondo Social Europ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ESCUDO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11240" y="127080"/>
            <a:ext cx="1158840" cy="1092240"/>
          </a:xfrm>
          <a:prstGeom prst="rect">
            <a:avLst/>
          </a:prstGeom>
          <a:ln w="0">
            <a:noFill/>
          </a:ln>
        </p:spPr>
      </p:pic>
      <p:pic>
        <p:nvPicPr>
          <p:cNvPr id="47" name="BANDERA%20FSE" descr=""/>
          <p:cNvPicPr/>
          <p:nvPr/>
        </p:nvPicPr>
        <p:blipFill>
          <a:blip r:embed="rId2"/>
          <a:stretch/>
        </p:blipFill>
        <p:spPr>
          <a:xfrm>
            <a:off x="8255160" y="127080"/>
            <a:ext cx="1519200" cy="1055520"/>
          </a:xfrm>
          <a:prstGeom prst="rect">
            <a:avLst/>
          </a:prstGeom>
          <a:ln w="0">
            <a:noFill/>
          </a:ln>
        </p:spPr>
      </p:pic>
      <p:pic>
        <p:nvPicPr>
          <p:cNvPr id="48" name="equal_pre" descr=""/>
          <p:cNvPicPr/>
          <p:nvPr/>
        </p:nvPicPr>
        <p:blipFill>
          <a:blip r:embed="rId3"/>
          <a:stretch/>
        </p:blipFill>
        <p:spPr>
          <a:xfrm>
            <a:off x="3170160" y="127080"/>
            <a:ext cx="307836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1236240"/>
            <a:ext cx="929628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3333cc"/>
                </a:solidFill>
                <a:uFillTx/>
                <a:latin typeface="Tahoma"/>
              </a:rPr>
              <a:t>Claves de acceso a ETCIM para cada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1. Identificador de usuario: LO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2. Clave de escritura: WRITER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- AD Secretaría transnacional: 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para dar de alta el ACT, editarlo y validarl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- resto de Ads: sólo para validar el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3. Clave de lectura: READER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- para consultar el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066680"/>
            <a:ext cx="9753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ahoma"/>
              </a:rPr>
              <a:t>Inclusión del ACT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3333cc"/>
                </a:solidFill>
                <a:latin typeface="Tahoma"/>
              </a:rPr>
              <a:t>en la base de datos transnacional común (ETCI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905120"/>
            <a:ext cx="899172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63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Quién</a:t>
            </a: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: la entidad que haya sido designada para realizar la coordinación o secretariado del grupo transnacional (“secretariado ETCIM”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ómo</a:t>
            </a: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: a través de una clave de acceso (writer) que facilita la autoridad de gestión del Estado miembro correspondiente a dicha 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ahoma"/>
              </a:rPr>
              <a:t>Cuándo</a:t>
            </a: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: </a:t>
            </a:r>
            <a:r>
              <a:rPr b="1" lang="es-ES_tradnl" sz="2400" spc="-1" strike="noStrike" u="sng">
                <a:solidFill>
                  <a:srgbClr val="3333cc"/>
                </a:solidFill>
                <a:uFillTx/>
                <a:latin typeface="Tahoma"/>
              </a:rPr>
              <a:t>preferentemente</a:t>
            </a:r>
            <a:r>
              <a:rPr b="0" lang="es-ES_tradnl" sz="2400" spc="-1" strike="noStrike">
                <a:solidFill>
                  <a:srgbClr val="3333cc"/>
                </a:solidFill>
                <a:latin typeface="Tahoma"/>
              </a:rPr>
              <a:t> antes de finales de abril 2005; es el plazo establecido por la Comisión para que todos los ACT estén introducidos en el ETCIM.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56340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CUERDE: EL ACT DEBE ESTAR EN FRANCÉS O EN ING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666880"/>
            <a:ext cx="380880" cy="304920"/>
          </a:xfrm>
          <a:prstGeom prst="rightArrow">
            <a:avLst>
              <a:gd name="adj1" fmla="val 57296"/>
              <a:gd name="adj2" fmla="val 749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3886200"/>
            <a:ext cx="380880" cy="304920"/>
          </a:xfrm>
          <a:prstGeom prst="rightArrow">
            <a:avLst>
              <a:gd name="adj1" fmla="val 57296"/>
              <a:gd name="adj2" fmla="val 7495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5105520"/>
            <a:ext cx="380880" cy="304560"/>
          </a:xfrm>
          <a:prstGeom prst="rightArrow">
            <a:avLst>
              <a:gd name="adj1" fmla="val 57296"/>
              <a:gd name="adj2" fmla="val 7504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861680" y="2286000"/>
            <a:ext cx="202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ahoma"/>
              </a:rPr>
              <a:t>Dos forma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ahoma"/>
              </a:rPr>
              <a:t>entrar en ETC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flipH="1" flipV="1">
            <a:off x="1218960" y="2133720"/>
            <a:ext cx="6553080" cy="3045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57440" y="2819520"/>
            <a:ext cx="2590920" cy="7617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1028880"/>
            <a:ext cx="77724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295280" y="97164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47920" y="857160"/>
            <a:ext cx="8001000" cy="6000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 flipH="1" flipV="1">
            <a:off x="5334120" y="1981080"/>
            <a:ext cx="761760" cy="914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362320" y="4572000"/>
            <a:ext cx="761760" cy="99072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000" y="5638680"/>
            <a:ext cx="320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ahoma"/>
              </a:rPr>
              <a:t>En esta dirección mail recibirá l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ahoma"/>
              </a:rPr>
              <a:t>notificaciones sobre su  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flipH="1" flipV="1">
            <a:off x="3352320" y="5029200"/>
            <a:ext cx="762120" cy="914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5280" y="800280"/>
            <a:ext cx="807732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V="1">
            <a:off x="762120" y="4648320"/>
            <a:ext cx="1523880" cy="7617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0" y="5486400"/>
            <a:ext cx="1296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ahoma"/>
              </a:rPr>
              <a:t>Incorporar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3333cc"/>
                </a:solidFill>
                <a:latin typeface="Tahoma"/>
              </a:rPr>
              <a:t>los so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99072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3333cc"/>
                </a:solidFill>
                <a:uFillTx/>
                <a:latin typeface="Century Gothic"/>
              </a:rPr>
              <a:t>Fuentes de inform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entury Gothic"/>
              </a:rPr>
              <a:t>- Guía de uso de la ECD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entury Gothic"/>
              </a:rPr>
              <a:t>Guía de uso de la ETCI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https://equal.cec.eu.int/equal/jsp/searchHelp.jsp?lang=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Century Gothic"/>
              </a:rPr>
              <a:t>Guía EQUAL de Transnacionalidad 2004-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http://www.mtas.es/uafse/equal/guia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267080" y="46483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838080"/>
            <a:ext cx="9237960" cy="59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CAMPOS PRINCIPALES DE LA ETC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- Nombre del 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Fundamentos y obje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Programa de trabajo y metodología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Disposiciones para la organización y la t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de deci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Procedimientos de seguimiento y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Disposicione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IMPORTANTE: No utilizar la ETCIM para redactar por primera vez el ACT. Éste debe haber sido redactado previamente por los socios transnacionales de común acuerdo. Después la Secretaría deberá cortar y pegar el texto del ACT en la ETCIM desde un texto en formato TX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57200" y="5867280"/>
            <a:ext cx="83808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V="1">
            <a:off x="685800" y="5486400"/>
            <a:ext cx="83808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7621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V="1">
            <a:off x="609480" y="2743200"/>
            <a:ext cx="838440" cy="3808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609480" y="3123720"/>
            <a:ext cx="9144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09480" y="3580920"/>
            <a:ext cx="838440" cy="381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6629040" y="3505320"/>
            <a:ext cx="114300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99760" y="3352680"/>
            <a:ext cx="141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EN VIG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447920"/>
            <a:ext cx="8381880" cy="31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IMPORTA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Cuando alguna AD o la Autoridad de Gestión rechaza el borrador de ACT, no es necesario hacer un NUEVO ACT en la ETCIM, sino una NUEVA </a:t>
            </a:r>
            <a:r>
              <a:rPr b="1" lang="es-ES" sz="3200" spc="-1" strike="noStrike">
                <a:solidFill>
                  <a:srgbClr val="ff0000"/>
                </a:solidFill>
                <a:latin typeface="Tahoma"/>
              </a:rPr>
              <a:t>VERSIÓN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 DEL 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5280" y="2057400"/>
            <a:ext cx="746784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Una vez terminado de introducir el borrador del ACT en todos los campos de la ETCIM (y una vez grabado) hay que dar la op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PEDIR A LAS OTRAS ADS </a:t>
            </a:r>
            <a:r>
              <a:rPr b="1" i="1" lang="es-ES" sz="2800" spc="-1" strike="noStrike">
                <a:solidFill>
                  <a:srgbClr val="3333cc"/>
                </a:solidFill>
                <a:latin typeface="Tahoma"/>
              </a:rPr>
              <a:t>VALI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Al hacerlo se notifica a las Ads que deben validar el ACT introduc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835200" y="758880"/>
          <a:ext cx="8008920" cy="6406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758880"/>
                    <a:ext cx="800892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52578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2120" y="2209680"/>
            <a:ext cx="848016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Cuando el ACT esté en vigor en la ETCIM, cada AD implicada deberá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Tahoma"/>
              </a:rPr>
              <a:t>imprimirlo desde la ETCIM, firmarlo y sellarlo</a:t>
            </a: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 y enviarlo a la AD española, quien lo presentará a la UAFSE junto con una copia traducida al castell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ff0000"/>
                </a:solidFill>
                <a:latin typeface="Tahoma"/>
              </a:rPr>
              <a:t>antes del 30 de junio de 200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85800"/>
            <a:ext cx="9906120" cy="61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3333cc"/>
                </a:solidFill>
                <a:uFillTx/>
                <a:latin typeface="Tahoma"/>
              </a:rPr>
              <a:t>Bases de datos europ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ECDB</a:t>
            </a: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 (Equal Common Database)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BDCE (Base de datos Común Europe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ahoma"/>
              </a:rPr>
              <a:t>ETCIM</a:t>
            </a: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 (Equal Transnational Co-operation Int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Module)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Módulo de Internet para la Cooper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ahoma"/>
              </a:rPr>
              <a:t>Transnacional en Eq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http://europa.eu.int/comm/eq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(Internet Explorer v. 5.5 o superi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57560" y="140508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5120" y="1914480"/>
            <a:ext cx="6581520" cy="4943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103040" y="838080"/>
            <a:ext cx="7553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Página de inicio EQUAL Comisión Europ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ahoma"/>
              </a:rPr>
              <a:t>http://europa.eu.int/comm/eq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8076960" y="5105520"/>
            <a:ext cx="10666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543800" y="1219320"/>
            <a:ext cx="259092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CONTENIDOS DE LA EC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- Herramienta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Búsqueda de 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Login ETC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- Estadís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- Contenidos de 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Proyectos en los 2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Países de la 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- Buscar Ads y A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- Disponible en 20 leng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Arial Narrow"/>
              </a:rPr>
              <a:t>- Opciones de Ay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4266720" y="2209320"/>
            <a:ext cx="3505320" cy="2286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895120" y="3733920"/>
            <a:ext cx="4953240" cy="13716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257800" y="2895480"/>
            <a:ext cx="2819520" cy="60984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19920" y="4724280"/>
            <a:ext cx="1828800" cy="763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3657600"/>
            <a:ext cx="533520" cy="5335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590920"/>
            <a:ext cx="53316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73280" y="990720"/>
            <a:ext cx="83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ALGUNOS TRUCOS PARA BÚSQUEDAS EN ECD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00200"/>
            <a:ext cx="883944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Tahoma"/>
              </a:rPr>
              <a:t>%  </a:t>
            </a: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 Funciona como un comodín para completar palabras: “handicap%” nos dará handicapped, handicapé, handicapé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_   Permite aparecer cualquier carácter antes de una serie de letras: _ent nos dará dent, vent, employment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AND  Nos permite buscar textos donde queremos encontrar 2 palabras: employment AND racism sólo nos dará Ads que incluyen las 2 palabr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OR  Nos permite buscar textos con al menos UNA de la dos palabras que pongamos: employment OR racism nos dará cualquier texto que tenga una de las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NOT  Se utiliza para buscar un término y a la vez evitar otro: employment NOT racism nos dara textos con employment que NO tienen la palabra racis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{ }   Nos permite buscar una secuencia exacta de palabras: por ejemplo {la lutte contre l’homophobie} nos dará sólo aquella AD que tenga exactamente esas palabras en ese orden. También permite buscar items con signos especiales  como -  %   ?  /  etc., que normalmente no salen en las búsquedas, por ej. Uk-7990-879/89  deberá buscarse siempre entre { } porque contiene ese tipo de signos:  {Uk-7990-879/89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1219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1430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Guía EQUAL de Transnacion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2133720"/>
            <a:ext cx="8458200" cy="28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1. EQ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2. Cooperación transnacional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3. Preparar la cooperación trans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4. Encontrar so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5. Primeros pasos hacia la un acuerdo trans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  <a:ea typeface="Arial"/>
              </a:rPr>
              <a:t>6. Completar el 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7. Reuniones, visitas de estudio, intercambios y periodos de prác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8. Plan financi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9. Seguimiento y evalu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404080" y="4267080"/>
            <a:ext cx="480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Tahoma"/>
              </a:rPr>
              <a:t>UTILIZACIÓN DE LA ETC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sitename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8610480" cy="895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267080" y="2666880"/>
            <a:ext cx="914400" cy="1219320"/>
          </a:xfrm>
          <a:prstGeom prst="downArrow">
            <a:avLst>
              <a:gd name="adj1" fmla="val 50000"/>
              <a:gd name="adj2" fmla="val 3333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8:39:31Z</dcterms:created>
  <dc:creator>MTAS</dc:creator>
  <dc:description/>
  <dc:language>en-US</dc:language>
  <cp:lastModifiedBy>MTAS</cp:lastModifiedBy>
  <cp:lastPrinted>2002-03-07T15:06:50Z</cp:lastPrinted>
  <dcterms:modified xsi:type="dcterms:W3CDTF">2005-03-04T12:59:43Z</dcterms:modified>
  <cp:revision>99</cp:revision>
  <dc:subject/>
  <dc:title>Sin título de diapositiva</dc:title>
</cp:coreProperties>
</file>