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029B-4F5E-4532-AB38-A1302FA36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4E77-8244-4A5D-B7DB-B1A5A131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1054-764D-4B76-AA13-29B93E68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41FA-D3D2-4ECC-B358-0B8109FAB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B67A-D37E-4FFC-9641-95212AAF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8E69-3DF1-4009-A2CE-E10BF9C5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977C-A257-44DE-8603-E27669A3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85A2-2CD6-4A75-9A57-D325476F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DBB4-7676-4095-8B5C-44085B9B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54AA-117B-4253-B752-C97835DA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396F-FD5D-4951-8F1C-E5A954B0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5936-26BC-41EC-BA65-37FCE0C7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952F-4CB0-4474-90DD-39D3F4DB8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SCUDO" descr=""/>
          <p:cNvPicPr/>
          <p:nvPr/>
        </p:nvPicPr>
        <p:blipFill>
          <a:blip r:embed="rId2"/>
          <a:stretch/>
        </p:blipFill>
        <p:spPr>
          <a:xfrm>
            <a:off x="142920" y="71280"/>
            <a:ext cx="730080" cy="746280"/>
          </a:xfrm>
          <a:prstGeom prst="rect">
            <a:avLst/>
          </a:prstGeom>
          <a:ln w="0">
            <a:noFill/>
          </a:ln>
        </p:spPr>
      </p:pic>
      <p:pic>
        <p:nvPicPr>
          <p:cNvPr id="6" name="BANDERA%20FSE" descr=""/>
          <p:cNvPicPr/>
          <p:nvPr/>
        </p:nvPicPr>
        <p:blipFill>
          <a:blip r:embed="rId3"/>
          <a:stretch/>
        </p:blipFill>
        <p:spPr>
          <a:xfrm>
            <a:off x="8128080" y="122400"/>
            <a:ext cx="857160" cy="62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" name=""/>
          <p:cNvGraphicFramePr/>
          <p:nvPr/>
        </p:nvGraphicFramePr>
        <p:xfrm>
          <a:off x="3657600" y="152280"/>
          <a:ext cx="18669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57600" y="152280"/>
                    <a:ext cx="18669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acine.fr/frontblocks" TargetMode="External"/><Relationship Id="rId2" Type="http://schemas.openxmlformats.org/officeDocument/2006/relationships/hyperlink" Target="http://www.racine.fr/frontblocks" TargetMode="External"/><Relationship Id="rId3" Type="http://schemas.openxmlformats.org/officeDocument/2006/relationships/hyperlink" Target="http://www.racine.fr/frontblocks" TargetMode="External"/><Relationship Id="rId4" Type="http://schemas.openxmlformats.org/officeDocument/2006/relationships/hyperlink" Target="http://www.racine.fr/frontblocks" TargetMode="External"/><Relationship Id="rId5" Type="http://schemas.openxmlformats.org/officeDocument/2006/relationships/hyperlink" Target="http://www.racine.fr/frontblocks" TargetMode="External"/><Relationship Id="rId6" Type="http://schemas.openxmlformats.org/officeDocument/2006/relationships/hyperlink" Target="http://www.racine.fr/frontblocks" TargetMode="Externa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38080" y="1557360"/>
            <a:ext cx="830592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I.</a:t>
            </a:r>
            <a:r>
              <a:rPr b="1" lang="en-US" sz="7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           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ONCEPTO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</a:t>
            </a:r>
            <a:r>
              <a:rPr b="0" lang="en-US" sz="7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Principio arraigado a la filosofía de las 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</a:t>
            </a:r>
            <a:r>
              <a:rPr b="0" lang="en-US" sz="7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Aporta valor añadido a los proyectos naci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</a:t>
            </a:r>
            <a:r>
              <a:rPr b="0" lang="en-US" sz="7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Implica el trabajo conjunto con otros EM para la búsqueda de soluciones comunes ante problemáticas simil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</a:t>
            </a:r>
            <a:r>
              <a:rPr b="0" lang="en-US" sz="7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e pretende incrementar y enriquecer las perspectivas naci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II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Formalización y elaboración  del AC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.....y a su vez se conozcan los indicadores (en tiempo, cantidad y calidad), las fuentes de verificación  (coste y quien lo va a hac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- 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Establecer Mecanismos de coordin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-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Determinar la Secretaría transnacional ( si es rotativa o no...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Determinar el sistema de toma de decisiones de forma clara y conci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-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Determinar la metodología de seguimiento y evalu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914400"/>
            <a:ext cx="7925040" cy="54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  <a:ea typeface="Arial"/>
              </a:rPr>
              <a:t>III Gestión y Ejecu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</a:t>
            </a:r>
            <a:r>
              <a:rPr b="0" lang="es-E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Es importante tener en cuenta las 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Lecciones aprendidas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 de los socios que ya hayan trabajado antes en proyectos transnaci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Partiendo del ACT establecido, intentar 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cumplir los plazos y seguir la estructura de las actividades plantead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Recordar que los 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calendarios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no son sólo para las reuniones sino para la elaboración de productos y para todas las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Arial"/>
                <a:ea typeface="Arial"/>
              </a:rPr>
              <a:t>- 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  <a:ea typeface="Arial"/>
              </a:rPr>
              <a:t>Intentar que 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  <a:ea typeface="Arial"/>
              </a:rPr>
              <a:t>no haya cambios en el personal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  <a:ea typeface="Arial"/>
              </a:rPr>
              <a:t> coordinador de la transnacionalidad para no perder el hilo conductor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- 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  <a:ea typeface="Arial"/>
              </a:rPr>
              <a:t>Establecer los 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  <a:ea typeface="Arial"/>
              </a:rPr>
              <a:t>cauces de comunicación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  <a:ea typeface="Arial"/>
              </a:rPr>
              <a:t> adecuados, ya que según se van desarrollando las acciones van surgiendo dudas, problemas etc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-  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  <a:ea typeface="Arial"/>
              </a:rPr>
              <a:t>Seguir los 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  <a:ea typeface="Arial"/>
              </a:rPr>
              <a:t>presupuestos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  <a:ea typeface="Arial"/>
              </a:rPr>
              <a:t> establecidos para cada actividad con el fin de que no haya grandes desfases.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-  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  <a:ea typeface="Arial"/>
              </a:rPr>
              <a:t>Absolutamente imprescindible establecer mecanismos de 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  <a:ea typeface="Arial"/>
              </a:rPr>
              <a:t>autoevaluación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  <a:ea typeface="Arial"/>
              </a:rPr>
              <a:t>, tal y como especifica la ficha 9 de la Guía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09880" y="590400"/>
            <a:ext cx="2955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III Gestión y Ejecució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1676520"/>
            <a:ext cx="838224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</a:t>
            </a:r>
            <a:r>
              <a:rPr b="0" lang="es-ES" sz="7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La Comisión Europea ha profundizado en la importancia de este principio básico de Equal y se ha hecho un esfuerzo para la 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homogeneización de calendarios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 a través de la apertura de una 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ventana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transnacional comú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</a:t>
            </a:r>
            <a:r>
              <a:rPr b="0" lang="es-ES" sz="7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Creación de un 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Grupo de Trabajo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 para dinamizar  las colaboraciones transnacionales y para la actualización de los docum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</a:t>
            </a:r>
            <a:r>
              <a:rPr b="0" lang="es-ES" sz="7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Elaboración de documentos de apoyo (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handbook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entre NSS) o 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Grid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con la información requerida por cada país disponible en la extranet de la ECD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009800"/>
            <a:ext cx="891540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II EVOLUC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04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04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</a:t>
            </a:r>
            <a:r>
              <a:rPr b="0" lang="es-ES" sz="7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De la primera fase de proyectos Equal, a raíz de la Evaluación Intermedia de Diciembre de 2003, se ha observado una 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línea de continuidad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en las acciones transnacionales y 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muy poco esfuerzo de las AD’s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para obtener un valor añadido re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04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04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</a:t>
            </a:r>
            <a:r>
              <a:rPr b="0" lang="es-ES" sz="7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La 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tipología de acciones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 transnacionales se basa y se ha basado e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04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04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. intercambios de experiencias y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04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. intercambios de personas beneficiarias, técnicas y sta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04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. desarrollo de metodologías y productos conju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04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. establecimiento de re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914400"/>
            <a:ext cx="8001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El mensaje que se pretende dar para esta fase es hacer que l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TRANSNACIONALIDAD SEA ALGO TRANSVERSAL A LOS PROYECTOS NACI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Así, p.e, tal y como se enuncia en la Guía en l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ficha 7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, el Desarrollo conjunto de productos o sistemas puede aportar un gran valor añadido a los proye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Elaboración  de un Modelo de Certificación  de I O denominado OPTIMA realizado entre España e Italia 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Visitas de estudio entre los participantes (Alemania, UKGB, Grecia, Italia y Suecia) para realizar entrevistas de investigación para ayudar a las personas desfavoreci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1752480"/>
            <a:ext cx="8153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CONSIDERACIONES PREV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Existencia de la 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figura de un Coordinador Transnacional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, con habilidades lingüísticas, con capacidad de comunicación y que dinamice las tareas e implique al resto de los socios naci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</a:t>
            </a:r>
            <a:r>
              <a:rPr b="0" lang="es-ES" sz="7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 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Establecer 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dispositivos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 para que todos los socios participen en la transnacionalidad, su evolución y sus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192320"/>
            <a:ext cx="8686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10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04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04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I.</a:t>
            </a: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            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Búsqueda de socios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04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04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   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Tener en cuenta las fuentes de información exist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047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04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. Contactos prop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04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. Estructura de apo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04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. EC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047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. Situación de cada EM en la extranet de la ECD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. Forum francés de internet: 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"/>
              </a:rPr>
              <a:t>http://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www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3"/>
              </a:rPr>
              <a:t>.racine.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4"/>
              </a:rPr>
              <a:t>fr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5"/>
              </a:rPr>
              <a:t>/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6"/>
              </a:rPr>
              <a:t>frontblocks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  <a:ea typeface="Arial"/>
              </a:rPr>
              <a:t>  racine/forum/enterforum.a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10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0880" y="685800"/>
            <a:ext cx="83059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Arial"/>
                <a:ea typeface="Arial"/>
              </a:rPr>
              <a:t>Aspectos a tener en cu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    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  <a:ea typeface="Arial"/>
              </a:rPr>
              <a:t>Intentar ser 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  <a:ea typeface="Arial"/>
              </a:rPr>
              <a:t>exigente 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  <a:ea typeface="Arial"/>
              </a:rPr>
              <a:t>a la hora de buscar el so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    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  <a:ea typeface="Arial"/>
              </a:rPr>
              <a:t>Valorar la 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  <a:ea typeface="Arial"/>
              </a:rPr>
              <a:t>experiencia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  <a:ea typeface="Arial"/>
              </a:rPr>
              <a:t> de los soc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   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  <a:ea typeface="Arial"/>
              </a:rPr>
              <a:t>Tener un conocimiento previo del programna de trabajo de los socios. Para ello se recomienda establecer un cuadro comparativo entre las 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  <a:ea typeface="Arial"/>
              </a:rPr>
              <a:t>actividades de los socios y las propias, así como de los objetivos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  <a:ea typeface="Arial"/>
              </a:rPr>
              <a:t> comunes. Es lo que denominamos 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  <a:ea typeface="Arial"/>
              </a:rPr>
              <a:t>Benchlearning 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  <a:ea typeface="Arial"/>
              </a:rPr>
              <a:t>(página 17 de la Guía), haciendo alusión siempre al principio de 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    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  <a:ea typeface="Arial"/>
              </a:rPr>
              <a:t>Mantener al menos un par de 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  <a:ea typeface="Arial"/>
              </a:rPr>
              <a:t>reuniones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  <a:ea typeface="Arial"/>
              </a:rPr>
              <a:t> con los so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  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  <a:ea typeface="Arial"/>
              </a:rPr>
              <a:t>Ser cuidadosos a la hora de </a:t>
            </a:r>
            <a:r>
              <a:rPr b="1" lang="es-ES" sz="2000" spc="-1" strike="noStrike">
                <a:solidFill>
                  <a:srgbClr val="0000ff"/>
                </a:solidFill>
                <a:latin typeface="Arial"/>
                <a:ea typeface="Arial"/>
              </a:rPr>
              <a:t>analizar los presupuestos y los conten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2104920"/>
            <a:ext cx="830592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</a:t>
            </a:r>
            <a:r>
              <a:rPr b="0" lang="es-ES" sz="7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    </a:t>
            </a:r>
            <a:r>
              <a:rPr b="1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Intentar trabajar en la misma Area Temática si bien lo importante es el valor añadido o la complementariedad que suponga al programa na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</a:t>
            </a:r>
            <a:r>
              <a:rPr b="0" lang="es-ES" sz="7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2400" spc="-1" strike="noStrike">
                <a:solidFill>
                  <a:srgbClr val="0000ff"/>
                </a:solidFill>
                <a:latin typeface="Arial"/>
                <a:ea typeface="Arial"/>
              </a:rPr>
              <a:t>Establecer dispositivos y mecanismos para que todos los socios nacionales se involucren activamente. Se pueden crear grupos de trabajo para la transnacion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219320"/>
            <a:ext cx="7848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II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Formalización y elaboración  del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-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L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Coherencia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es la clave. Los planes de trabajo del ACT han de ser coherentes con los planes naci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- 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Se recomienda seguir una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lógica de intervenció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en la que se hagan constar, siguiendo la página 31 de la Gu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. Los objetivos cla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. La finalidad del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. Los result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. Las 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0:50:47Z</dcterms:created>
  <dc:creator>MONICA</dc:creator>
  <dc:description/>
  <dc:language>en-US</dc:language>
  <cp:lastModifiedBy>MTAS</cp:lastModifiedBy>
  <dcterms:modified xsi:type="dcterms:W3CDTF">2005-03-09T09:46:52Z</dcterms:modified>
  <cp:revision>3</cp:revision>
  <dc:subject/>
  <dc:title>Presentación de PowerPoint</dc:title>
</cp:coreProperties>
</file>